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944E-9C08-4016-8EDF-D7BE2A39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0E67-4892-43D1-9BE1-640606C7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C092-5603-4468-87C0-5B9B8AE9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175A-948D-4E07-A1AD-31A3B479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A73E-59D5-42A0-86BE-2607C73B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B5CC-9C50-4BBA-9846-305E46C4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848C-9D82-4175-8389-A6B4CC69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CD7-CD68-4BB4-90B1-81D370C3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5E35-3D63-4B00-B431-67AFA1A8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966-F867-43FA-ACD0-27E60A0B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716E-DD66-4B4A-9788-7A7ED13B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4219-DC99-4533-81B0-66E1D8D3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EC29-2C50-4BCC-96DB-FE17776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8B55-EBB6-49DA-9576-E7CA8C0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8048-1385-4513-8884-1F87184F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2D28-131E-404D-A268-3FB50D65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3B76-1061-4974-92B7-84D58861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FD4E-9979-44D9-A6CC-A496AB74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7AE4-FC74-4D50-B581-5D893FAB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689B-EFE7-4649-9BFF-2BED2226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E19F-CFFC-4514-854D-5BFBFB6A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8A21-0592-41BF-8E52-B39B61C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6629-A298-43D4-88E0-60B85AE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1262-B542-40A2-8CAA-1D4C936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9F6B-246D-4D08-B689-9EF6EB7F8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7BF-B7CE-4CAF-8D48-D0DE909A3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er: A triangle has a 52 degree angle and a 75 degree angle.  What is the measure of the other 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35800" y="289332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your work and prove your answer is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08080" y="3670200"/>
            <a:ext cx="704880" cy="366840"/>
          </a:xfrm>
          <a:custGeom>
            <a:avLst/>
            <a:gdLst/>
            <a:ahLst/>
            <a:rect l="l" t="t" r="r" b="b"/>
            <a:pathLst>
              <a:path w="1960" h="1018">
                <a:moveTo>
                  <a:pt x="3820" y="10220"/>
                </a:moveTo>
                <a:cubicBezTo>
                  <a:pt x="3708" y="10299"/>
                  <a:pt x="3616" y="10281"/>
                  <a:pt x="3497" y="10319"/>
                </a:cubicBezTo>
                <a:cubicBezTo>
                  <a:pt x="3389" y="10353"/>
                  <a:pt x="3324" y="10574"/>
                  <a:pt x="3299" y="10666"/>
                </a:cubicBezTo>
                <a:cubicBezTo>
                  <a:pt x="3299" y="10683"/>
                  <a:pt x="3299" y="10699"/>
                  <a:pt x="3299" y="10716"/>
                </a:cubicBezTo>
                <a:cubicBezTo>
                  <a:pt x="3430" y="10679"/>
                  <a:pt x="3635" y="10560"/>
                  <a:pt x="3746" y="10716"/>
                </a:cubicBezTo>
                <a:cubicBezTo>
                  <a:pt x="3943" y="10993"/>
                  <a:pt x="3429" y="11207"/>
                  <a:pt x="3249" y="11212"/>
                </a:cubicBezTo>
                <a:cubicBezTo>
                  <a:pt x="3103" y="11163"/>
                  <a:pt x="3054" y="11148"/>
                  <a:pt x="3076" y="11013"/>
                </a:cubicBezTo>
              </a:path>
              <a:path w="1960" h="1018">
                <a:moveTo>
                  <a:pt x="4068" y="10319"/>
                </a:moveTo>
                <a:cubicBezTo>
                  <a:pt x="4200" y="10319"/>
                  <a:pt x="4440" y="10229"/>
                  <a:pt x="4539" y="10344"/>
                </a:cubicBezTo>
                <a:cubicBezTo>
                  <a:pt x="4665" y="10490"/>
                  <a:pt x="4353" y="10627"/>
                  <a:pt x="4291" y="10666"/>
                </a:cubicBezTo>
                <a:cubicBezTo>
                  <a:pt x="4055" y="10731"/>
                  <a:pt x="4377" y="10605"/>
                  <a:pt x="4465" y="10691"/>
                </a:cubicBezTo>
                <a:cubicBezTo>
                  <a:pt x="4706" y="10925"/>
                  <a:pt x="4133" y="11059"/>
                  <a:pt x="4018" y="11063"/>
                </a:cubicBezTo>
                <a:cubicBezTo>
                  <a:pt x="3878" y="11039"/>
                  <a:pt x="3830" y="11039"/>
                  <a:pt x="3845" y="10914"/>
                </a:cubicBezTo>
              </a:path>
              <a:path w="1960" h="1018">
                <a:moveTo>
                  <a:pt x="4936" y="10195"/>
                </a:moveTo>
                <a:cubicBezTo>
                  <a:pt x="4901" y="10230"/>
                  <a:pt x="4733" y="10441"/>
                  <a:pt x="4911" y="10393"/>
                </a:cubicBezTo>
                <a:cubicBezTo>
                  <a:pt x="5145" y="10329"/>
                  <a:pt x="4981" y="10276"/>
                  <a:pt x="4862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27280" y="3670200"/>
            <a:ext cx="955800" cy="990720"/>
          </a:xfrm>
          <a:custGeom>
            <a:avLst/>
            <a:gdLst/>
            <a:ahLst/>
            <a:rect l="l" t="t" r="r" b="b"/>
            <a:pathLst>
              <a:path w="2655" h="2754">
                <a:moveTo>
                  <a:pt x="10964" y="10195"/>
                </a:moveTo>
                <a:cubicBezTo>
                  <a:pt x="10853" y="10231"/>
                  <a:pt x="10739" y="10272"/>
                  <a:pt x="10616" y="10294"/>
                </a:cubicBezTo>
                <a:cubicBezTo>
                  <a:pt x="10565" y="10303"/>
                  <a:pt x="10548" y="10493"/>
                  <a:pt x="10542" y="10542"/>
                </a:cubicBezTo>
                <a:cubicBezTo>
                  <a:pt x="10542" y="10567"/>
                  <a:pt x="10542" y="10591"/>
                  <a:pt x="10542" y="10616"/>
                </a:cubicBezTo>
                <a:cubicBezTo>
                  <a:pt x="10798" y="10489"/>
                  <a:pt x="10899" y="10461"/>
                  <a:pt x="11137" y="10616"/>
                </a:cubicBezTo>
                <a:cubicBezTo>
                  <a:pt x="10962" y="10843"/>
                  <a:pt x="10839" y="10936"/>
                  <a:pt x="10567" y="10815"/>
                </a:cubicBezTo>
              </a:path>
              <a:path w="2655" h="2754">
                <a:moveTo>
                  <a:pt x="11261" y="10269"/>
                </a:moveTo>
                <a:cubicBezTo>
                  <a:pt x="11496" y="10211"/>
                  <a:pt x="11788" y="10248"/>
                  <a:pt x="11708" y="10592"/>
                </a:cubicBezTo>
                <a:cubicBezTo>
                  <a:pt x="11644" y="10869"/>
                  <a:pt x="11360" y="10808"/>
                  <a:pt x="11261" y="10666"/>
                </a:cubicBezTo>
                <a:cubicBezTo>
                  <a:pt x="11509" y="10609"/>
                  <a:pt x="11666" y="10599"/>
                  <a:pt x="11683" y="10889"/>
                </a:cubicBezTo>
              </a:path>
              <a:path w="2655" h="2754">
                <a:moveTo>
                  <a:pt x="10021" y="11237"/>
                </a:moveTo>
                <a:cubicBezTo>
                  <a:pt x="10035" y="11413"/>
                  <a:pt x="10059" y="11543"/>
                  <a:pt x="10021" y="11708"/>
                </a:cubicBezTo>
              </a:path>
              <a:path w="2655" h="2754">
                <a:moveTo>
                  <a:pt x="9798" y="11509"/>
                </a:moveTo>
                <a:cubicBezTo>
                  <a:pt x="10057" y="11469"/>
                  <a:pt x="10252" y="11414"/>
                  <a:pt x="10492" y="11311"/>
                </a:cubicBezTo>
              </a:path>
              <a:path w="2655" h="2754">
                <a:moveTo>
                  <a:pt x="10740" y="11187"/>
                </a:moveTo>
                <a:cubicBezTo>
                  <a:pt x="10831" y="11151"/>
                  <a:pt x="11157" y="11000"/>
                  <a:pt x="11187" y="11187"/>
                </a:cubicBezTo>
                <a:cubicBezTo>
                  <a:pt x="11206" y="11308"/>
                  <a:pt x="11132" y="11451"/>
                  <a:pt x="11088" y="11559"/>
                </a:cubicBezTo>
              </a:path>
              <a:path w="2655" h="2754">
                <a:moveTo>
                  <a:pt x="11410" y="11137"/>
                </a:moveTo>
                <a:cubicBezTo>
                  <a:pt x="11571" y="11146"/>
                  <a:pt x="11843" y="11155"/>
                  <a:pt x="11757" y="11410"/>
                </a:cubicBezTo>
                <a:cubicBezTo>
                  <a:pt x="11697" y="11587"/>
                  <a:pt x="11528" y="11588"/>
                  <a:pt x="11385" y="11609"/>
                </a:cubicBezTo>
                <a:cubicBezTo>
                  <a:pt x="11444" y="11530"/>
                  <a:pt x="11608" y="11539"/>
                  <a:pt x="11708" y="11584"/>
                </a:cubicBezTo>
                <a:cubicBezTo>
                  <a:pt x="11737" y="11597"/>
                  <a:pt x="11735" y="11636"/>
                  <a:pt x="11757" y="11658"/>
                </a:cubicBezTo>
              </a:path>
              <a:path w="2655" h="2754">
                <a:moveTo>
                  <a:pt x="11906" y="11088"/>
                </a:moveTo>
                <a:cubicBezTo>
                  <a:pt x="11806" y="11123"/>
                  <a:pt x="11661" y="11219"/>
                  <a:pt x="11559" y="11137"/>
                </a:cubicBezTo>
                <a:cubicBezTo>
                  <a:pt x="11504" y="11093"/>
                  <a:pt x="11485" y="11174"/>
                  <a:pt x="11435" y="11237"/>
                </a:cubicBezTo>
                <a:cubicBezTo>
                  <a:pt x="11427" y="11245"/>
                  <a:pt x="11418" y="11253"/>
                  <a:pt x="11410" y="11261"/>
                </a:cubicBezTo>
                <a:cubicBezTo>
                  <a:pt x="11496" y="11295"/>
                  <a:pt x="11485" y="11390"/>
                  <a:pt x="11559" y="11435"/>
                </a:cubicBezTo>
                <a:cubicBezTo>
                  <a:pt x="11637" y="11482"/>
                  <a:pt x="11787" y="11402"/>
                  <a:pt x="11782" y="11534"/>
                </a:cubicBezTo>
                <a:cubicBezTo>
                  <a:pt x="11776" y="11711"/>
                  <a:pt x="11572" y="11724"/>
                  <a:pt x="11435" y="11708"/>
                </a:cubicBezTo>
                <a:cubicBezTo>
                  <a:pt x="11378" y="11689"/>
                  <a:pt x="11335" y="11680"/>
                  <a:pt x="11385" y="11683"/>
                </a:cubicBezTo>
              </a:path>
              <a:path w="2655" h="2754">
                <a:moveTo>
                  <a:pt x="11857" y="11112"/>
                </a:moveTo>
                <a:cubicBezTo>
                  <a:pt x="11761" y="11129"/>
                  <a:pt x="11566" y="11096"/>
                  <a:pt x="11485" y="11137"/>
                </a:cubicBezTo>
                <a:cubicBezTo>
                  <a:pt x="11471" y="11144"/>
                  <a:pt x="11463" y="11381"/>
                  <a:pt x="11460" y="11410"/>
                </a:cubicBezTo>
                <a:cubicBezTo>
                  <a:pt x="11601" y="11370"/>
                  <a:pt x="11681" y="11361"/>
                  <a:pt x="11832" y="11385"/>
                </a:cubicBezTo>
                <a:cubicBezTo>
                  <a:pt x="11868" y="11594"/>
                  <a:pt x="11781" y="11714"/>
                  <a:pt x="11534" y="11708"/>
                </a:cubicBezTo>
                <a:cubicBezTo>
                  <a:pt x="11436" y="11683"/>
                  <a:pt x="11403" y="11676"/>
                  <a:pt x="11435" y="11584"/>
                </a:cubicBezTo>
              </a:path>
              <a:path w="2655" h="2754">
                <a:moveTo>
                  <a:pt x="10170" y="12030"/>
                </a:moveTo>
                <a:cubicBezTo>
                  <a:pt x="10880" y="11962"/>
                  <a:pt x="11591" y="11891"/>
                  <a:pt x="12303" y="11857"/>
                </a:cubicBezTo>
                <a:cubicBezTo>
                  <a:pt x="12353" y="11857"/>
                  <a:pt x="12402" y="11857"/>
                  <a:pt x="12452" y="11857"/>
                </a:cubicBezTo>
              </a:path>
              <a:path w="2655" h="2754">
                <a:moveTo>
                  <a:pt x="10443" y="12402"/>
                </a:moveTo>
                <a:cubicBezTo>
                  <a:pt x="10453" y="12530"/>
                  <a:pt x="10436" y="12938"/>
                  <a:pt x="10492" y="12898"/>
                </a:cubicBezTo>
              </a:path>
              <a:path w="2655" h="2754">
                <a:moveTo>
                  <a:pt x="10889" y="12378"/>
                </a:moveTo>
                <a:cubicBezTo>
                  <a:pt x="11033" y="12407"/>
                  <a:pt x="11491" y="12562"/>
                  <a:pt x="11212" y="12799"/>
                </a:cubicBezTo>
                <a:cubicBezTo>
                  <a:pt x="11054" y="12933"/>
                  <a:pt x="10910" y="12883"/>
                  <a:pt x="10790" y="12799"/>
                </a:cubicBezTo>
                <a:cubicBezTo>
                  <a:pt x="11032" y="12691"/>
                  <a:pt x="11063" y="12814"/>
                  <a:pt x="11286" y="12824"/>
                </a:cubicBezTo>
                <a:cubicBezTo>
                  <a:pt x="11303" y="12816"/>
                  <a:pt x="11319" y="12807"/>
                  <a:pt x="11336" y="12799"/>
                </a:cubicBezTo>
              </a:path>
              <a:path w="2655" h="2754">
                <a:moveTo>
                  <a:pt x="11460" y="12328"/>
                </a:moveTo>
                <a:cubicBezTo>
                  <a:pt x="11644" y="12320"/>
                  <a:pt x="11829" y="12279"/>
                  <a:pt x="12005" y="12303"/>
                </a:cubicBezTo>
                <a:cubicBezTo>
                  <a:pt x="12005" y="12503"/>
                  <a:pt x="12005" y="12699"/>
                  <a:pt x="11981" y="12898"/>
                </a:cubicBezTo>
                <a:cubicBezTo>
                  <a:pt x="11981" y="12890"/>
                  <a:pt x="11981" y="12882"/>
                  <a:pt x="11981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72160" y="3357720"/>
            <a:ext cx="1509840" cy="2090520"/>
          </a:xfrm>
          <a:custGeom>
            <a:avLst/>
            <a:gdLst/>
            <a:ahLst/>
            <a:rect l="l" t="t" r="r" b="b"/>
            <a:pathLst>
              <a:path w="4193" h="5805">
                <a:moveTo>
                  <a:pt x="18504" y="9376"/>
                </a:moveTo>
                <a:cubicBezTo>
                  <a:pt x="18472" y="9473"/>
                  <a:pt x="18458" y="9537"/>
                  <a:pt x="18405" y="9624"/>
                </a:cubicBezTo>
                <a:cubicBezTo>
                  <a:pt x="18229" y="9915"/>
                  <a:pt x="18200" y="9937"/>
                  <a:pt x="18479" y="10120"/>
                </a:cubicBezTo>
                <a:cubicBezTo>
                  <a:pt x="18892" y="10391"/>
                  <a:pt x="18878" y="10481"/>
                  <a:pt x="18703" y="10914"/>
                </a:cubicBezTo>
                <a:cubicBezTo>
                  <a:pt x="18520" y="11366"/>
                  <a:pt x="18678" y="11442"/>
                  <a:pt x="18777" y="11857"/>
                </a:cubicBezTo>
                <a:cubicBezTo>
                  <a:pt x="18865" y="12226"/>
                  <a:pt x="18585" y="12467"/>
                  <a:pt x="18579" y="12824"/>
                </a:cubicBezTo>
                <a:cubicBezTo>
                  <a:pt x="18576" y="13008"/>
                  <a:pt x="18694" y="13106"/>
                  <a:pt x="18653" y="13295"/>
                </a:cubicBezTo>
                <a:cubicBezTo>
                  <a:pt x="18628" y="13407"/>
                  <a:pt x="18656" y="13444"/>
                  <a:pt x="18703" y="13543"/>
                </a:cubicBezTo>
              </a:path>
              <a:path w="4193" h="5805">
                <a:moveTo>
                  <a:pt x="20662" y="9401"/>
                </a:moveTo>
                <a:cubicBezTo>
                  <a:pt x="20581" y="9484"/>
                  <a:pt x="20444" y="9451"/>
                  <a:pt x="20315" y="9451"/>
                </a:cubicBezTo>
                <a:cubicBezTo>
                  <a:pt x="20185" y="9451"/>
                  <a:pt x="20177" y="9549"/>
                  <a:pt x="20166" y="9674"/>
                </a:cubicBezTo>
                <a:cubicBezTo>
                  <a:pt x="20166" y="9790"/>
                  <a:pt x="20166" y="9806"/>
                  <a:pt x="20166" y="9872"/>
                </a:cubicBezTo>
                <a:cubicBezTo>
                  <a:pt x="20326" y="9812"/>
                  <a:pt x="20480" y="9675"/>
                  <a:pt x="20662" y="9798"/>
                </a:cubicBezTo>
                <a:cubicBezTo>
                  <a:pt x="20888" y="9950"/>
                  <a:pt x="20562" y="10361"/>
                  <a:pt x="20365" y="10220"/>
                </a:cubicBezTo>
                <a:cubicBezTo>
                  <a:pt x="20340" y="10162"/>
                  <a:pt x="20315" y="10104"/>
                  <a:pt x="20290" y="10046"/>
                </a:cubicBezTo>
              </a:path>
              <a:path w="4193" h="5805">
                <a:moveTo>
                  <a:pt x="21109" y="9376"/>
                </a:moveTo>
                <a:cubicBezTo>
                  <a:pt x="21176" y="9368"/>
                  <a:pt x="21423" y="9262"/>
                  <a:pt x="21431" y="9376"/>
                </a:cubicBezTo>
                <a:cubicBezTo>
                  <a:pt x="21379" y="9508"/>
                  <a:pt x="21356" y="9554"/>
                  <a:pt x="21258" y="9599"/>
                </a:cubicBezTo>
                <a:cubicBezTo>
                  <a:pt x="21229" y="9710"/>
                  <a:pt x="21595" y="9501"/>
                  <a:pt x="21555" y="9823"/>
                </a:cubicBezTo>
                <a:cubicBezTo>
                  <a:pt x="21514" y="10146"/>
                  <a:pt x="21172" y="10119"/>
                  <a:pt x="21010" y="9996"/>
                </a:cubicBezTo>
              </a:path>
              <a:path w="4193" h="5805">
                <a:moveTo>
                  <a:pt x="19496" y="11137"/>
                </a:moveTo>
                <a:cubicBezTo>
                  <a:pt x="19546" y="11311"/>
                  <a:pt x="19587" y="11471"/>
                  <a:pt x="19596" y="11658"/>
                </a:cubicBezTo>
                <a:cubicBezTo>
                  <a:pt x="19596" y="11725"/>
                  <a:pt x="19596" y="11758"/>
                  <a:pt x="19596" y="11683"/>
                </a:cubicBezTo>
              </a:path>
              <a:path w="4193" h="5805">
                <a:moveTo>
                  <a:pt x="19372" y="11460"/>
                </a:moveTo>
                <a:cubicBezTo>
                  <a:pt x="19581" y="11390"/>
                  <a:pt x="19785" y="11312"/>
                  <a:pt x="19993" y="11237"/>
                </a:cubicBezTo>
              </a:path>
              <a:path w="4193" h="5805">
                <a:moveTo>
                  <a:pt x="20712" y="10666"/>
                </a:moveTo>
                <a:cubicBezTo>
                  <a:pt x="20642" y="10705"/>
                  <a:pt x="20497" y="10742"/>
                  <a:pt x="20464" y="10815"/>
                </a:cubicBezTo>
                <a:cubicBezTo>
                  <a:pt x="20418" y="10928"/>
                  <a:pt x="20402" y="10958"/>
                  <a:pt x="20414" y="11038"/>
                </a:cubicBezTo>
                <a:cubicBezTo>
                  <a:pt x="20681" y="10991"/>
                  <a:pt x="20782" y="10944"/>
                  <a:pt x="20935" y="11162"/>
                </a:cubicBezTo>
                <a:cubicBezTo>
                  <a:pt x="20740" y="11370"/>
                  <a:pt x="20606" y="11419"/>
                  <a:pt x="20464" y="11187"/>
                </a:cubicBezTo>
              </a:path>
              <a:path w="4193" h="5805">
                <a:moveTo>
                  <a:pt x="21208" y="10666"/>
                </a:moveTo>
                <a:cubicBezTo>
                  <a:pt x="21396" y="10697"/>
                  <a:pt x="21657" y="10776"/>
                  <a:pt x="21580" y="11038"/>
                </a:cubicBezTo>
                <a:cubicBezTo>
                  <a:pt x="21531" y="11207"/>
                  <a:pt x="21365" y="11197"/>
                  <a:pt x="21233" y="11212"/>
                </a:cubicBezTo>
                <a:cubicBezTo>
                  <a:pt x="21317" y="11043"/>
                  <a:pt x="21464" y="11002"/>
                  <a:pt x="21630" y="11137"/>
                </a:cubicBezTo>
                <a:cubicBezTo>
                  <a:pt x="21690" y="11218"/>
                  <a:pt x="21704" y="11231"/>
                  <a:pt x="21729" y="11286"/>
                </a:cubicBezTo>
              </a:path>
              <a:path w="4193" h="5805">
                <a:moveTo>
                  <a:pt x="20067" y="11708"/>
                </a:moveTo>
                <a:cubicBezTo>
                  <a:pt x="20609" y="11606"/>
                  <a:pt x="21153" y="11538"/>
                  <a:pt x="21704" y="11509"/>
                </a:cubicBezTo>
                <a:cubicBezTo>
                  <a:pt x="21869" y="11500"/>
                  <a:pt x="21988" y="11507"/>
                  <a:pt x="22151" y="11534"/>
                </a:cubicBezTo>
              </a:path>
              <a:path w="4193" h="5805">
                <a:moveTo>
                  <a:pt x="20141" y="12154"/>
                </a:moveTo>
                <a:cubicBezTo>
                  <a:pt x="20141" y="12267"/>
                  <a:pt x="20127" y="12636"/>
                  <a:pt x="20191" y="12700"/>
                </a:cubicBezTo>
                <a:cubicBezTo>
                  <a:pt x="20208" y="12675"/>
                  <a:pt x="20224" y="12651"/>
                  <a:pt x="20241" y="12626"/>
                </a:cubicBezTo>
              </a:path>
              <a:path w="4193" h="5805">
                <a:moveTo>
                  <a:pt x="20712" y="12080"/>
                </a:moveTo>
                <a:cubicBezTo>
                  <a:pt x="20620" y="12188"/>
                  <a:pt x="20455" y="12366"/>
                  <a:pt x="20563" y="12526"/>
                </a:cubicBezTo>
                <a:cubicBezTo>
                  <a:pt x="20720" y="12760"/>
                  <a:pt x="21130" y="12512"/>
                  <a:pt x="21134" y="12278"/>
                </a:cubicBezTo>
                <a:cubicBezTo>
                  <a:pt x="21138" y="11996"/>
                  <a:pt x="20859" y="12127"/>
                  <a:pt x="20836" y="12080"/>
                </a:cubicBezTo>
              </a:path>
              <a:path w="4193" h="5805">
                <a:moveTo>
                  <a:pt x="21729" y="11807"/>
                </a:moveTo>
                <a:cubicBezTo>
                  <a:pt x="21658" y="11839"/>
                  <a:pt x="21421" y="11888"/>
                  <a:pt x="21382" y="11931"/>
                </a:cubicBezTo>
                <a:cubicBezTo>
                  <a:pt x="21322" y="11998"/>
                  <a:pt x="21364" y="12207"/>
                  <a:pt x="21382" y="12278"/>
                </a:cubicBezTo>
                <a:cubicBezTo>
                  <a:pt x="21622" y="12164"/>
                  <a:pt x="21710" y="12129"/>
                  <a:pt x="21952" y="12229"/>
                </a:cubicBezTo>
                <a:cubicBezTo>
                  <a:pt x="21874" y="12541"/>
                  <a:pt x="21731" y="12514"/>
                  <a:pt x="21431" y="12477"/>
                </a:cubicBezTo>
              </a:path>
              <a:path w="4193" h="5805">
                <a:moveTo>
                  <a:pt x="19968" y="13122"/>
                </a:moveTo>
                <a:cubicBezTo>
                  <a:pt x="20064" y="13271"/>
                  <a:pt x="20118" y="13396"/>
                  <a:pt x="20141" y="13568"/>
                </a:cubicBezTo>
              </a:path>
              <a:path w="4193" h="5805">
                <a:moveTo>
                  <a:pt x="19943" y="13345"/>
                </a:moveTo>
                <a:cubicBezTo>
                  <a:pt x="20192" y="13289"/>
                  <a:pt x="20291" y="13266"/>
                  <a:pt x="20464" y="13221"/>
                </a:cubicBezTo>
              </a:path>
              <a:path w="4193" h="5805">
                <a:moveTo>
                  <a:pt x="20910" y="13022"/>
                </a:moveTo>
                <a:cubicBezTo>
                  <a:pt x="21094" y="13009"/>
                  <a:pt x="21271" y="12985"/>
                  <a:pt x="21456" y="12973"/>
                </a:cubicBezTo>
                <a:cubicBezTo>
                  <a:pt x="21465" y="13155"/>
                  <a:pt x="21391" y="13339"/>
                  <a:pt x="21456" y="13494"/>
                </a:cubicBezTo>
              </a:path>
              <a:path w="4193" h="5805">
                <a:moveTo>
                  <a:pt x="21679" y="12998"/>
                </a:moveTo>
                <a:cubicBezTo>
                  <a:pt x="21758" y="13144"/>
                  <a:pt x="21965" y="13250"/>
                  <a:pt x="22101" y="13395"/>
                </a:cubicBezTo>
                <a:cubicBezTo>
                  <a:pt x="21972" y="13459"/>
                  <a:pt x="21907" y="13464"/>
                  <a:pt x="21803" y="13370"/>
                </a:cubicBezTo>
              </a:path>
              <a:path w="4193" h="5805">
                <a:moveTo>
                  <a:pt x="21853" y="12898"/>
                </a:moveTo>
                <a:cubicBezTo>
                  <a:pt x="21993" y="12881"/>
                  <a:pt x="22135" y="12862"/>
                  <a:pt x="22275" y="12849"/>
                </a:cubicBezTo>
              </a:path>
              <a:path w="4193" h="5805">
                <a:moveTo>
                  <a:pt x="19621" y="14089"/>
                </a:moveTo>
                <a:cubicBezTo>
                  <a:pt x="20474" y="13944"/>
                  <a:pt x="21309" y="13857"/>
                  <a:pt x="22175" y="13841"/>
                </a:cubicBezTo>
                <a:cubicBezTo>
                  <a:pt x="22803" y="13829"/>
                  <a:pt x="22365" y="13838"/>
                  <a:pt x="22299" y="13891"/>
                </a:cubicBezTo>
              </a:path>
              <a:path w="4193" h="5805">
                <a:moveTo>
                  <a:pt x="20389" y="14511"/>
                </a:moveTo>
                <a:cubicBezTo>
                  <a:pt x="20389" y="14455"/>
                  <a:pt x="20374" y="14449"/>
                  <a:pt x="20414" y="14436"/>
                </a:cubicBezTo>
                <a:cubicBezTo>
                  <a:pt x="20476" y="14653"/>
                  <a:pt x="20436" y="14860"/>
                  <a:pt x="20464" y="15081"/>
                </a:cubicBezTo>
                <a:cubicBezTo>
                  <a:pt x="20504" y="15162"/>
                  <a:pt x="20534" y="15152"/>
                  <a:pt x="20588" y="15007"/>
                </a:cubicBezTo>
              </a:path>
              <a:path w="4193" h="5805">
                <a:moveTo>
                  <a:pt x="21208" y="14263"/>
                </a:moveTo>
                <a:cubicBezTo>
                  <a:pt x="21004" y="14412"/>
                  <a:pt x="20962" y="14445"/>
                  <a:pt x="20886" y="14684"/>
                </a:cubicBezTo>
                <a:cubicBezTo>
                  <a:pt x="21084" y="14795"/>
                  <a:pt x="21341" y="14818"/>
                  <a:pt x="21307" y="15032"/>
                </a:cubicBezTo>
                <a:cubicBezTo>
                  <a:pt x="21037" y="14936"/>
                  <a:pt x="21162" y="14785"/>
                  <a:pt x="21258" y="14536"/>
                </a:cubicBezTo>
                <a:cubicBezTo>
                  <a:pt x="21279" y="14470"/>
                  <a:pt x="21277" y="14445"/>
                  <a:pt x="21332" y="14461"/>
                </a:cubicBezTo>
              </a:path>
              <a:path w="4193" h="5805">
                <a:moveTo>
                  <a:pt x="21803" y="14362"/>
                </a:moveTo>
                <a:cubicBezTo>
                  <a:pt x="21678" y="14677"/>
                  <a:pt x="21617" y="14659"/>
                  <a:pt x="21803" y="14908"/>
                </a:cubicBezTo>
                <a:cubicBezTo>
                  <a:pt x="21991" y="14823"/>
                  <a:pt x="22389" y="14543"/>
                  <a:pt x="22002" y="14337"/>
                </a:cubicBezTo>
                <a:cubicBezTo>
                  <a:pt x="21952" y="14337"/>
                  <a:pt x="21903" y="14337"/>
                  <a:pt x="21853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8280" y="5589720"/>
            <a:ext cx="1027080" cy="438120"/>
          </a:xfrm>
          <a:custGeom>
            <a:avLst/>
            <a:gdLst/>
            <a:ahLst/>
            <a:rect l="l" t="t" r="r" b="b"/>
            <a:pathLst>
              <a:path w="2854" h="1216">
                <a:moveTo>
                  <a:pt x="5011" y="15701"/>
                </a:moveTo>
                <a:cubicBezTo>
                  <a:pt x="5121" y="15890"/>
                  <a:pt x="5248" y="16085"/>
                  <a:pt x="5308" y="16297"/>
                </a:cubicBezTo>
                <a:cubicBezTo>
                  <a:pt x="5308" y="16356"/>
                  <a:pt x="5305" y="16363"/>
                  <a:pt x="5283" y="16272"/>
                </a:cubicBezTo>
              </a:path>
              <a:path w="2854" h="1216">
                <a:moveTo>
                  <a:pt x="4713" y="15825"/>
                </a:moveTo>
                <a:cubicBezTo>
                  <a:pt x="4977" y="15769"/>
                  <a:pt x="5259" y="15681"/>
                  <a:pt x="5531" y="15701"/>
                </a:cubicBezTo>
                <a:cubicBezTo>
                  <a:pt x="5588" y="15729"/>
                  <a:pt x="5602" y="15745"/>
                  <a:pt x="5556" y="15801"/>
                </a:cubicBezTo>
              </a:path>
              <a:path w="2854" h="1216">
                <a:moveTo>
                  <a:pt x="4787" y="16297"/>
                </a:moveTo>
                <a:cubicBezTo>
                  <a:pt x="5068" y="16277"/>
                  <a:pt x="5354" y="16233"/>
                  <a:pt x="5631" y="16173"/>
                </a:cubicBezTo>
                <a:cubicBezTo>
                  <a:pt x="5686" y="16161"/>
                  <a:pt x="5729" y="16145"/>
                  <a:pt x="5779" y="16123"/>
                </a:cubicBezTo>
              </a:path>
              <a:path w="2854" h="1216">
                <a:moveTo>
                  <a:pt x="6226" y="15553"/>
                </a:moveTo>
                <a:cubicBezTo>
                  <a:pt x="6055" y="15539"/>
                  <a:pt x="5761" y="15494"/>
                  <a:pt x="5829" y="15776"/>
                </a:cubicBezTo>
                <a:cubicBezTo>
                  <a:pt x="5870" y="15947"/>
                  <a:pt x="6073" y="16108"/>
                  <a:pt x="6028" y="16272"/>
                </a:cubicBezTo>
              </a:path>
              <a:path w="2854" h="1216">
                <a:moveTo>
                  <a:pt x="5705" y="15999"/>
                </a:moveTo>
                <a:cubicBezTo>
                  <a:pt x="5930" y="15991"/>
                  <a:pt x="6151" y="15970"/>
                  <a:pt x="6375" y="15949"/>
                </a:cubicBezTo>
              </a:path>
              <a:path w="2854" h="1216">
                <a:moveTo>
                  <a:pt x="5581" y="16718"/>
                </a:moveTo>
                <a:cubicBezTo>
                  <a:pt x="5581" y="16726"/>
                  <a:pt x="5581" y="16735"/>
                  <a:pt x="5581" y="16743"/>
                </a:cubicBezTo>
              </a:path>
              <a:path w="2854" h="1216">
                <a:moveTo>
                  <a:pt x="3795" y="15949"/>
                </a:moveTo>
                <a:cubicBezTo>
                  <a:pt x="3826" y="16155"/>
                  <a:pt x="3909" y="16343"/>
                  <a:pt x="3969" y="16545"/>
                </a:cubicBezTo>
                <a:cubicBezTo>
                  <a:pt x="3981" y="16587"/>
                  <a:pt x="3925" y="16526"/>
                  <a:pt x="3894" y="16495"/>
                </a:cubicBezTo>
              </a:path>
              <a:path w="2854" h="1216">
                <a:moveTo>
                  <a:pt x="3572" y="16346"/>
                </a:moveTo>
                <a:cubicBezTo>
                  <a:pt x="3735" y="16283"/>
                  <a:pt x="3908" y="16218"/>
                  <a:pt x="4068" y="16173"/>
                </a:cubicBezTo>
                <a:cubicBezTo>
                  <a:pt x="4076" y="16173"/>
                  <a:pt x="4085" y="16173"/>
                  <a:pt x="4093" y="16173"/>
                </a:cubicBezTo>
              </a:path>
              <a:path w="2854" h="1216">
                <a:moveTo>
                  <a:pt x="3994" y="15999"/>
                </a:moveTo>
                <a:cubicBezTo>
                  <a:pt x="3895" y="16196"/>
                  <a:pt x="3806" y="16392"/>
                  <a:pt x="3721" y="16594"/>
                </a:cubicBezTo>
              </a:path>
              <a:path w="2854" h="1216">
                <a:moveTo>
                  <a:pt x="3522" y="16123"/>
                </a:moveTo>
                <a:cubicBezTo>
                  <a:pt x="3755" y="16193"/>
                  <a:pt x="3998" y="16264"/>
                  <a:pt x="4217" y="16371"/>
                </a:cubicBezTo>
                <a:cubicBezTo>
                  <a:pt x="4273" y="16409"/>
                  <a:pt x="4276" y="16426"/>
                  <a:pt x="4316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920" y="5661000"/>
            <a:ext cx="696960" cy="376200"/>
          </a:xfrm>
          <a:custGeom>
            <a:avLst/>
            <a:gdLst/>
            <a:ahLst/>
            <a:rect l="l" t="t" r="r" b="b"/>
            <a:pathLst>
              <a:path w="1936" h="1043">
                <a:moveTo>
                  <a:pt x="6970" y="15949"/>
                </a:moveTo>
                <a:cubicBezTo>
                  <a:pt x="7026" y="16055"/>
                  <a:pt x="7148" y="16253"/>
                  <a:pt x="7268" y="16049"/>
                </a:cubicBezTo>
                <a:cubicBezTo>
                  <a:pt x="7311" y="15917"/>
                  <a:pt x="7323" y="15885"/>
                  <a:pt x="7342" y="15801"/>
                </a:cubicBezTo>
                <a:cubicBezTo>
                  <a:pt x="7450" y="16027"/>
                  <a:pt x="7692" y="16375"/>
                  <a:pt x="7491" y="16619"/>
                </a:cubicBezTo>
                <a:cubicBezTo>
                  <a:pt x="7112" y="17079"/>
                  <a:pt x="7032" y="16623"/>
                  <a:pt x="7094" y="16321"/>
                </a:cubicBezTo>
              </a:path>
              <a:path w="1936" h="1043">
                <a:moveTo>
                  <a:pt x="7863" y="15726"/>
                </a:moveTo>
                <a:cubicBezTo>
                  <a:pt x="7751" y="15849"/>
                  <a:pt x="7665" y="15949"/>
                  <a:pt x="7590" y="16098"/>
                </a:cubicBezTo>
                <a:cubicBezTo>
                  <a:pt x="7709" y="16114"/>
                  <a:pt x="8162" y="16060"/>
                  <a:pt x="7962" y="15801"/>
                </a:cubicBezTo>
                <a:cubicBezTo>
                  <a:pt x="7868" y="15763"/>
                  <a:pt x="7850" y="15723"/>
                  <a:pt x="7813" y="15776"/>
                </a:cubicBezTo>
              </a:path>
              <a:path w="1936" h="1043">
                <a:moveTo>
                  <a:pt x="8111" y="15900"/>
                </a:moveTo>
                <a:cubicBezTo>
                  <a:pt x="8194" y="16045"/>
                  <a:pt x="8372" y="16276"/>
                  <a:pt x="8508" y="15974"/>
                </a:cubicBezTo>
                <a:cubicBezTo>
                  <a:pt x="8527" y="15840"/>
                  <a:pt x="8553" y="15818"/>
                  <a:pt x="8508" y="15751"/>
                </a:cubicBezTo>
                <a:cubicBezTo>
                  <a:pt x="8530" y="16081"/>
                  <a:pt x="8606" y="16009"/>
                  <a:pt x="8905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02000" y="5429160"/>
            <a:ext cx="598680" cy="339840"/>
          </a:xfrm>
          <a:custGeom>
            <a:avLst/>
            <a:gdLst/>
            <a:ahLst/>
            <a:rect l="l" t="t" r="r" b="b"/>
            <a:pathLst>
              <a:path w="1662" h="944">
                <a:moveTo>
                  <a:pt x="9847" y="15726"/>
                </a:moveTo>
                <a:cubicBezTo>
                  <a:pt x="9835" y="15664"/>
                  <a:pt x="9809" y="15634"/>
                  <a:pt x="9773" y="15577"/>
                </a:cubicBezTo>
                <a:cubicBezTo>
                  <a:pt x="9635" y="15605"/>
                  <a:pt x="9270" y="15790"/>
                  <a:pt x="9500" y="15999"/>
                </a:cubicBezTo>
                <a:cubicBezTo>
                  <a:pt x="9707" y="16188"/>
                  <a:pt x="9847" y="15813"/>
                  <a:pt x="9847" y="15701"/>
                </a:cubicBezTo>
                <a:cubicBezTo>
                  <a:pt x="9923" y="15980"/>
                  <a:pt x="10027" y="15903"/>
                  <a:pt x="10269" y="15850"/>
                </a:cubicBezTo>
              </a:path>
              <a:path w="1662" h="944">
                <a:moveTo>
                  <a:pt x="10468" y="15503"/>
                </a:moveTo>
                <a:cubicBezTo>
                  <a:pt x="10173" y="15598"/>
                  <a:pt x="10036" y="15663"/>
                  <a:pt x="10145" y="15974"/>
                </a:cubicBezTo>
                <a:cubicBezTo>
                  <a:pt x="10506" y="15884"/>
                  <a:pt x="10433" y="15641"/>
                  <a:pt x="10393" y="15304"/>
                </a:cubicBezTo>
                <a:cubicBezTo>
                  <a:pt x="10385" y="15255"/>
                  <a:pt x="10376" y="15205"/>
                  <a:pt x="10368" y="15156"/>
                </a:cubicBezTo>
                <a:cubicBezTo>
                  <a:pt x="10404" y="15387"/>
                  <a:pt x="10484" y="15606"/>
                  <a:pt x="10567" y="15825"/>
                </a:cubicBezTo>
              </a:path>
              <a:path w="1662" h="944">
                <a:moveTo>
                  <a:pt x="10988" y="15453"/>
                </a:moveTo>
                <a:cubicBezTo>
                  <a:pt x="10785" y="15408"/>
                  <a:pt x="10496" y="15538"/>
                  <a:pt x="10542" y="15825"/>
                </a:cubicBezTo>
                <a:cubicBezTo>
                  <a:pt x="10575" y="15858"/>
                  <a:pt x="10608" y="15892"/>
                  <a:pt x="10641" y="15925"/>
                </a:cubicBezTo>
                <a:cubicBezTo>
                  <a:pt x="11007" y="15720"/>
                  <a:pt x="10936" y="15509"/>
                  <a:pt x="10864" y="15106"/>
                </a:cubicBezTo>
                <a:cubicBezTo>
                  <a:pt x="10834" y="15167"/>
                  <a:pt x="10902" y="15608"/>
                  <a:pt x="11013" y="15751"/>
                </a:cubicBezTo>
                <a:cubicBezTo>
                  <a:pt x="11046" y="15759"/>
                  <a:pt x="11079" y="15768"/>
                  <a:pt x="11112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7240" y="5411880"/>
            <a:ext cx="53496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11832" y="15032"/>
                </a:moveTo>
                <a:cubicBezTo>
                  <a:pt x="11886" y="15271"/>
                  <a:pt x="11938" y="15506"/>
                  <a:pt x="11956" y="15751"/>
                </a:cubicBezTo>
              </a:path>
              <a:path w="1489" h="745">
                <a:moveTo>
                  <a:pt x="11658" y="15528"/>
                </a:moveTo>
                <a:cubicBezTo>
                  <a:pt x="11999" y="15562"/>
                  <a:pt x="12334" y="15615"/>
                  <a:pt x="12303" y="15156"/>
                </a:cubicBezTo>
                <a:cubicBezTo>
                  <a:pt x="12287" y="15115"/>
                  <a:pt x="12270" y="15073"/>
                  <a:pt x="12254" y="15032"/>
                </a:cubicBezTo>
                <a:cubicBezTo>
                  <a:pt x="12228" y="15299"/>
                  <a:pt x="12290" y="15516"/>
                  <a:pt x="12353" y="15776"/>
                </a:cubicBezTo>
                <a:cubicBezTo>
                  <a:pt x="12383" y="15688"/>
                  <a:pt x="12449" y="15281"/>
                  <a:pt x="12626" y="15354"/>
                </a:cubicBezTo>
                <a:cubicBezTo>
                  <a:pt x="12762" y="15410"/>
                  <a:pt x="12744" y="15640"/>
                  <a:pt x="12750" y="15751"/>
                </a:cubicBezTo>
              </a:path>
              <a:path w="1489" h="745">
                <a:moveTo>
                  <a:pt x="12874" y="15404"/>
                </a:moveTo>
                <a:cubicBezTo>
                  <a:pt x="12973" y="15354"/>
                  <a:pt x="13006" y="15338"/>
                  <a:pt x="13022" y="15255"/>
                </a:cubicBezTo>
                <a:cubicBezTo>
                  <a:pt x="12893" y="15313"/>
                  <a:pt x="12627" y="15518"/>
                  <a:pt x="12774" y="15701"/>
                </a:cubicBezTo>
                <a:cubicBezTo>
                  <a:pt x="12948" y="15759"/>
                  <a:pt x="13022" y="15768"/>
                  <a:pt x="13146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9760" y="5367240"/>
            <a:ext cx="1009440" cy="411120"/>
          </a:xfrm>
          <a:custGeom>
            <a:avLst/>
            <a:gdLst/>
            <a:ahLst/>
            <a:rect l="l" t="t" r="r" b="b"/>
            <a:pathLst>
              <a:path w="2804" h="1142">
                <a:moveTo>
                  <a:pt x="14114" y="15180"/>
                </a:moveTo>
                <a:cubicBezTo>
                  <a:pt x="13895" y="15145"/>
                  <a:pt x="13512" y="15228"/>
                  <a:pt x="13667" y="15577"/>
                </a:cubicBezTo>
                <a:cubicBezTo>
                  <a:pt x="13708" y="15602"/>
                  <a:pt x="13750" y="15627"/>
                  <a:pt x="13791" y="15652"/>
                </a:cubicBezTo>
                <a:cubicBezTo>
                  <a:pt x="14006" y="15564"/>
                  <a:pt x="13996" y="15561"/>
                  <a:pt x="14064" y="15329"/>
                </a:cubicBezTo>
                <a:cubicBezTo>
                  <a:pt x="14085" y="15442"/>
                  <a:pt x="14145" y="15623"/>
                  <a:pt x="14312" y="15553"/>
                </a:cubicBezTo>
                <a:cubicBezTo>
                  <a:pt x="14385" y="15522"/>
                  <a:pt x="14482" y="15592"/>
                  <a:pt x="14436" y="15528"/>
                </a:cubicBezTo>
                <a:cubicBezTo>
                  <a:pt x="14377" y="15445"/>
                  <a:pt x="14484" y="15246"/>
                  <a:pt x="14585" y="15180"/>
                </a:cubicBezTo>
                <a:cubicBezTo>
                  <a:pt x="14618" y="15180"/>
                  <a:pt x="14651" y="15180"/>
                  <a:pt x="14684" y="15180"/>
                </a:cubicBezTo>
                <a:cubicBezTo>
                  <a:pt x="14772" y="15333"/>
                  <a:pt x="14752" y="15518"/>
                  <a:pt x="14833" y="15528"/>
                </a:cubicBezTo>
              </a:path>
              <a:path w="2804" h="1142">
                <a:moveTo>
                  <a:pt x="14932" y="15131"/>
                </a:moveTo>
                <a:cubicBezTo>
                  <a:pt x="14874" y="15200"/>
                  <a:pt x="14561" y="15811"/>
                  <a:pt x="14908" y="15503"/>
                </a:cubicBezTo>
                <a:cubicBezTo>
                  <a:pt x="15025" y="15338"/>
                  <a:pt x="15064" y="15291"/>
                  <a:pt x="15081" y="15156"/>
                </a:cubicBezTo>
                <a:cubicBezTo>
                  <a:pt x="15192" y="15437"/>
                  <a:pt x="15327" y="15826"/>
                  <a:pt x="14982" y="16024"/>
                </a:cubicBezTo>
                <a:cubicBezTo>
                  <a:pt x="14797" y="16047"/>
                  <a:pt x="14742" y="16064"/>
                  <a:pt x="14660" y="15949"/>
                </a:cubicBezTo>
              </a:path>
              <a:path w="2804" h="1142">
                <a:moveTo>
                  <a:pt x="15354" y="14908"/>
                </a:moveTo>
                <a:cubicBezTo>
                  <a:pt x="15388" y="15109"/>
                  <a:pt x="15402" y="15476"/>
                  <a:pt x="15503" y="15627"/>
                </a:cubicBezTo>
              </a:path>
              <a:path w="2804" h="1142">
                <a:moveTo>
                  <a:pt x="15677" y="15230"/>
                </a:moveTo>
                <a:cubicBezTo>
                  <a:pt x="15779" y="15194"/>
                  <a:pt x="15841" y="15169"/>
                  <a:pt x="15949" y="15156"/>
                </a:cubicBezTo>
                <a:cubicBezTo>
                  <a:pt x="15919" y="15079"/>
                  <a:pt x="15750" y="14931"/>
                  <a:pt x="15652" y="15007"/>
                </a:cubicBezTo>
                <a:cubicBezTo>
                  <a:pt x="15368" y="15226"/>
                  <a:pt x="15658" y="15445"/>
                  <a:pt x="15850" y="15453"/>
                </a:cubicBezTo>
              </a:path>
              <a:path w="2804" h="1142">
                <a:moveTo>
                  <a:pt x="16321" y="14932"/>
                </a:moveTo>
                <a:cubicBezTo>
                  <a:pt x="16189" y="14999"/>
                  <a:pt x="16148" y="15007"/>
                  <a:pt x="16123" y="15106"/>
                </a:cubicBezTo>
                <a:cubicBezTo>
                  <a:pt x="16234" y="15204"/>
                  <a:pt x="16378" y="15215"/>
                  <a:pt x="16470" y="15329"/>
                </a:cubicBezTo>
                <a:cubicBezTo>
                  <a:pt x="16214" y="15463"/>
                  <a:pt x="16001" y="15596"/>
                  <a:pt x="16098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9960" y="5268960"/>
            <a:ext cx="420840" cy="330120"/>
          </a:xfrm>
          <a:custGeom>
            <a:avLst/>
            <a:gdLst/>
            <a:ahLst/>
            <a:rect l="l" t="t" r="r" b="b"/>
            <a:pathLst>
              <a:path w="1167" h="919">
                <a:moveTo>
                  <a:pt x="17611" y="15032"/>
                </a:moveTo>
                <a:cubicBezTo>
                  <a:pt x="17444" y="15153"/>
                  <a:pt x="17145" y="15492"/>
                  <a:pt x="17587" y="15553"/>
                </a:cubicBezTo>
                <a:cubicBezTo>
                  <a:pt x="18091" y="15623"/>
                  <a:pt x="17757" y="15151"/>
                  <a:pt x="17686" y="15032"/>
                </a:cubicBezTo>
                <a:cubicBezTo>
                  <a:pt x="17694" y="15024"/>
                  <a:pt x="17703" y="15015"/>
                  <a:pt x="17711" y="15007"/>
                </a:cubicBezTo>
              </a:path>
              <a:path w="1167" h="919">
                <a:moveTo>
                  <a:pt x="18405" y="14635"/>
                </a:moveTo>
                <a:cubicBezTo>
                  <a:pt x="18111" y="14700"/>
                  <a:pt x="17920" y="14890"/>
                  <a:pt x="18132" y="15230"/>
                </a:cubicBezTo>
                <a:cubicBezTo>
                  <a:pt x="18205" y="15347"/>
                  <a:pt x="18418" y="15393"/>
                  <a:pt x="18207" y="15354"/>
                </a:cubicBezTo>
              </a:path>
              <a:path w="1167" h="919">
                <a:moveTo>
                  <a:pt x="17983" y="15205"/>
                </a:moveTo>
                <a:cubicBezTo>
                  <a:pt x="18267" y="15158"/>
                  <a:pt x="18353" y="15146"/>
                  <a:pt x="18529" y="15081"/>
                </a:cubicBezTo>
              </a:path>
              <a:path w="1167" h="919">
                <a:moveTo>
                  <a:pt x="18529" y="15081"/>
                </a:moveTo>
                <a:lnTo>
                  <a:pt x="18529" y="150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9200" y="609912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7069" y="17041"/>
                </a:moveTo>
                <a:cubicBezTo>
                  <a:pt x="7027" y="17020"/>
                  <a:pt x="6986" y="16864"/>
                  <a:pt x="6896" y="16942"/>
                </a:cubicBezTo>
                <a:cubicBezTo>
                  <a:pt x="6715" y="17099"/>
                  <a:pt x="6738" y="17244"/>
                  <a:pt x="6772" y="17438"/>
                </a:cubicBezTo>
                <a:cubicBezTo>
                  <a:pt x="6974" y="17359"/>
                  <a:pt x="7094" y="17317"/>
                  <a:pt x="7045" y="17066"/>
                </a:cubicBezTo>
                <a:cubicBezTo>
                  <a:pt x="7065" y="17335"/>
                  <a:pt x="7095" y="17331"/>
                  <a:pt x="7342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0040" y="5929200"/>
            <a:ext cx="1589040" cy="401760"/>
          </a:xfrm>
          <a:custGeom>
            <a:avLst/>
            <a:gdLst/>
            <a:ahLst/>
            <a:rect l="l" t="t" r="r" b="b"/>
            <a:pathLst>
              <a:path w="4416" h="1118">
                <a:moveTo>
                  <a:pt x="8235" y="16694"/>
                </a:moveTo>
                <a:cubicBezTo>
                  <a:pt x="8238" y="16712"/>
                  <a:pt x="8366" y="17372"/>
                  <a:pt x="8409" y="17338"/>
                </a:cubicBezTo>
                <a:cubicBezTo>
                  <a:pt x="8417" y="17313"/>
                  <a:pt x="8426" y="17289"/>
                  <a:pt x="8434" y="17264"/>
                </a:cubicBezTo>
              </a:path>
              <a:path w="4416" h="1118">
                <a:moveTo>
                  <a:pt x="7888" y="17016"/>
                </a:moveTo>
                <a:cubicBezTo>
                  <a:pt x="8188" y="16947"/>
                  <a:pt x="8460" y="16832"/>
                  <a:pt x="8731" y="17016"/>
                </a:cubicBezTo>
                <a:cubicBezTo>
                  <a:pt x="8814" y="17099"/>
                  <a:pt x="8830" y="17115"/>
                  <a:pt x="8880" y="17165"/>
                </a:cubicBezTo>
                <a:cubicBezTo>
                  <a:pt x="8870" y="17114"/>
                  <a:pt x="8833" y="17047"/>
                  <a:pt x="8855" y="16991"/>
                </a:cubicBezTo>
                <a:cubicBezTo>
                  <a:pt x="8866" y="16962"/>
                  <a:pt x="8925" y="16926"/>
                  <a:pt x="8930" y="16917"/>
                </a:cubicBezTo>
                <a:cubicBezTo>
                  <a:pt x="8948" y="16880"/>
                  <a:pt x="9000" y="16860"/>
                  <a:pt x="9054" y="16842"/>
                </a:cubicBezTo>
              </a:path>
              <a:path w="4416" h="1118">
                <a:moveTo>
                  <a:pt x="9227" y="16892"/>
                </a:moveTo>
                <a:cubicBezTo>
                  <a:pt x="9240" y="16919"/>
                  <a:pt x="9348" y="17196"/>
                  <a:pt x="9376" y="17140"/>
                </a:cubicBezTo>
              </a:path>
              <a:path w="4416" h="1118">
                <a:moveTo>
                  <a:pt x="9178" y="16545"/>
                </a:moveTo>
                <a:cubicBezTo>
                  <a:pt x="9219" y="16553"/>
                  <a:pt x="9261" y="16562"/>
                  <a:pt x="9302" y="16570"/>
                </a:cubicBezTo>
              </a:path>
              <a:path w="4416" h="1118">
                <a:moveTo>
                  <a:pt x="9302" y="16570"/>
                </a:moveTo>
                <a:lnTo>
                  <a:pt x="9302" y="16570"/>
                </a:lnTo>
              </a:path>
              <a:path w="4416" h="1118">
                <a:moveTo>
                  <a:pt x="9947" y="16892"/>
                </a:moveTo>
                <a:cubicBezTo>
                  <a:pt x="9947" y="16815"/>
                  <a:pt x="9949" y="16852"/>
                  <a:pt x="9872" y="16768"/>
                </a:cubicBezTo>
                <a:cubicBezTo>
                  <a:pt x="9727" y="16877"/>
                  <a:pt x="9696" y="16944"/>
                  <a:pt x="9624" y="17115"/>
                </a:cubicBezTo>
                <a:cubicBezTo>
                  <a:pt x="9858" y="17241"/>
                  <a:pt x="9900" y="17126"/>
                  <a:pt x="9971" y="16892"/>
                </a:cubicBezTo>
                <a:cubicBezTo>
                  <a:pt x="9971" y="16993"/>
                  <a:pt x="10009" y="17108"/>
                  <a:pt x="10145" y="17090"/>
                </a:cubicBezTo>
                <a:cubicBezTo>
                  <a:pt x="10273" y="17073"/>
                  <a:pt x="10355" y="16761"/>
                  <a:pt x="10393" y="16991"/>
                </a:cubicBezTo>
                <a:cubicBezTo>
                  <a:pt x="10393" y="17024"/>
                  <a:pt x="10393" y="17057"/>
                  <a:pt x="10393" y="17090"/>
                </a:cubicBezTo>
                <a:cubicBezTo>
                  <a:pt x="10393" y="17142"/>
                  <a:pt x="10392" y="17157"/>
                  <a:pt x="10368" y="17090"/>
                </a:cubicBezTo>
                <a:cubicBezTo>
                  <a:pt x="10380" y="16960"/>
                  <a:pt x="10395" y="16665"/>
                  <a:pt x="10616" y="16793"/>
                </a:cubicBezTo>
                <a:cubicBezTo>
                  <a:pt x="10710" y="16848"/>
                  <a:pt x="10780" y="16971"/>
                  <a:pt x="10864" y="17041"/>
                </a:cubicBezTo>
              </a:path>
              <a:path w="4416" h="1118">
                <a:moveTo>
                  <a:pt x="11112" y="16694"/>
                </a:moveTo>
                <a:cubicBezTo>
                  <a:pt x="10989" y="16834"/>
                  <a:pt x="10733" y="16993"/>
                  <a:pt x="10988" y="17090"/>
                </a:cubicBezTo>
                <a:cubicBezTo>
                  <a:pt x="11065" y="16985"/>
                  <a:pt x="11108" y="16821"/>
                  <a:pt x="11187" y="16743"/>
                </a:cubicBezTo>
                <a:cubicBezTo>
                  <a:pt x="11278" y="16959"/>
                  <a:pt x="11567" y="17397"/>
                  <a:pt x="11237" y="17562"/>
                </a:cubicBezTo>
                <a:cubicBezTo>
                  <a:pt x="10926" y="17718"/>
                  <a:pt x="10926" y="17473"/>
                  <a:pt x="10889" y="17289"/>
                </a:cubicBezTo>
              </a:path>
              <a:path w="4416" h="1118">
                <a:moveTo>
                  <a:pt x="11509" y="16470"/>
                </a:moveTo>
                <a:cubicBezTo>
                  <a:pt x="11550" y="16703"/>
                  <a:pt x="11456" y="17321"/>
                  <a:pt x="11633" y="17165"/>
                </a:cubicBezTo>
                <a:cubicBezTo>
                  <a:pt x="11641" y="17132"/>
                  <a:pt x="11650" y="17099"/>
                  <a:pt x="11658" y="17066"/>
                </a:cubicBezTo>
              </a:path>
              <a:path w="4416" h="1118">
                <a:moveTo>
                  <a:pt x="11757" y="16818"/>
                </a:moveTo>
                <a:cubicBezTo>
                  <a:pt x="11835" y="16790"/>
                  <a:pt x="12024" y="16765"/>
                  <a:pt x="12080" y="16718"/>
                </a:cubicBezTo>
                <a:cubicBezTo>
                  <a:pt x="12080" y="16683"/>
                  <a:pt x="12075" y="16666"/>
                  <a:pt x="12055" y="16644"/>
                </a:cubicBezTo>
                <a:cubicBezTo>
                  <a:pt x="11850" y="16632"/>
                  <a:pt x="11619" y="16778"/>
                  <a:pt x="11683" y="17041"/>
                </a:cubicBezTo>
                <a:cubicBezTo>
                  <a:pt x="11790" y="17148"/>
                  <a:pt x="11835" y="17180"/>
                  <a:pt x="11956" y="17115"/>
                </a:cubicBezTo>
              </a:path>
              <a:path w="4416" h="1118">
                <a:moveTo>
                  <a:pt x="12303" y="17239"/>
                </a:moveTo>
                <a:cubicBezTo>
                  <a:pt x="12303" y="17264"/>
                  <a:pt x="12303" y="17289"/>
                  <a:pt x="12303" y="17314"/>
                </a:cubicBezTo>
              </a:path>
              <a:path w="4416" h="1118">
                <a:moveTo>
                  <a:pt x="12303" y="17314"/>
                </a:moveTo>
                <a:lnTo>
                  <a:pt x="12303" y="173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99000" y="5902200"/>
            <a:ext cx="768240" cy="357480"/>
          </a:xfrm>
          <a:custGeom>
            <a:avLst/>
            <a:gdLst/>
            <a:ahLst/>
            <a:rect l="l" t="t" r="r" b="b"/>
            <a:pathLst>
              <a:path w="2135" h="993">
                <a:moveTo>
                  <a:pt x="12973" y="16421"/>
                </a:moveTo>
                <a:cubicBezTo>
                  <a:pt x="12973" y="16643"/>
                  <a:pt x="13022" y="16806"/>
                  <a:pt x="13072" y="17016"/>
                </a:cubicBezTo>
                <a:cubicBezTo>
                  <a:pt x="13072" y="17091"/>
                  <a:pt x="13067" y="17083"/>
                  <a:pt x="13047" y="16942"/>
                </a:cubicBezTo>
              </a:path>
              <a:path w="2135" h="993">
                <a:moveTo>
                  <a:pt x="12774" y="16743"/>
                </a:moveTo>
                <a:cubicBezTo>
                  <a:pt x="12963" y="16753"/>
                  <a:pt x="13471" y="16842"/>
                  <a:pt x="13519" y="16545"/>
                </a:cubicBezTo>
                <a:cubicBezTo>
                  <a:pt x="13502" y="16504"/>
                  <a:pt x="13486" y="16462"/>
                  <a:pt x="13469" y="16421"/>
                </a:cubicBezTo>
                <a:cubicBezTo>
                  <a:pt x="13386" y="16476"/>
                  <a:pt x="13490" y="16776"/>
                  <a:pt x="13543" y="16917"/>
                </a:cubicBezTo>
                <a:cubicBezTo>
                  <a:pt x="13551" y="16933"/>
                  <a:pt x="13560" y="16950"/>
                  <a:pt x="13568" y="16966"/>
                </a:cubicBezTo>
                <a:cubicBezTo>
                  <a:pt x="13570" y="16946"/>
                  <a:pt x="13625" y="16555"/>
                  <a:pt x="13692" y="16619"/>
                </a:cubicBezTo>
                <a:cubicBezTo>
                  <a:pt x="13818" y="16739"/>
                  <a:pt x="13762" y="16963"/>
                  <a:pt x="13965" y="16942"/>
                </a:cubicBezTo>
              </a:path>
              <a:path w="2135" h="993">
                <a:moveTo>
                  <a:pt x="14163" y="16669"/>
                </a:moveTo>
                <a:cubicBezTo>
                  <a:pt x="14232" y="16623"/>
                  <a:pt x="14253" y="16611"/>
                  <a:pt x="14288" y="16570"/>
                </a:cubicBezTo>
                <a:cubicBezTo>
                  <a:pt x="14158" y="16556"/>
                  <a:pt x="13955" y="16659"/>
                  <a:pt x="14015" y="16842"/>
                </a:cubicBezTo>
                <a:cubicBezTo>
                  <a:pt x="14092" y="17075"/>
                  <a:pt x="14366" y="16724"/>
                  <a:pt x="14412" y="16669"/>
                </a:cubicBezTo>
                <a:cubicBezTo>
                  <a:pt x="14462" y="16821"/>
                  <a:pt x="14531" y="16939"/>
                  <a:pt x="14709" y="16818"/>
                </a:cubicBezTo>
                <a:cubicBezTo>
                  <a:pt x="14803" y="16754"/>
                  <a:pt x="14720" y="16624"/>
                  <a:pt x="14833" y="16619"/>
                </a:cubicBezTo>
                <a:cubicBezTo>
                  <a:pt x="14866" y="16793"/>
                  <a:pt x="15036" y="17259"/>
                  <a:pt x="14784" y="17363"/>
                </a:cubicBezTo>
                <a:cubicBezTo>
                  <a:pt x="14561" y="17455"/>
                  <a:pt x="14411" y="17344"/>
                  <a:pt x="14238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0" y="5749920"/>
            <a:ext cx="830160" cy="509760"/>
          </a:xfrm>
          <a:custGeom>
            <a:avLst/>
            <a:gdLst/>
            <a:ahLst/>
            <a:rect l="l" t="t" r="r" b="b"/>
            <a:pathLst>
              <a:path w="2307" h="1415">
                <a:moveTo>
                  <a:pt x="15453" y="16570"/>
                </a:moveTo>
                <a:cubicBezTo>
                  <a:pt x="15552" y="16548"/>
                  <a:pt x="15744" y="16466"/>
                  <a:pt x="15850" y="16520"/>
                </a:cubicBezTo>
                <a:cubicBezTo>
                  <a:pt x="15951" y="16571"/>
                  <a:pt x="15667" y="16439"/>
                  <a:pt x="15577" y="16371"/>
                </a:cubicBezTo>
                <a:cubicBezTo>
                  <a:pt x="15407" y="16557"/>
                  <a:pt x="15357" y="16754"/>
                  <a:pt x="15652" y="16867"/>
                </a:cubicBezTo>
                <a:cubicBezTo>
                  <a:pt x="15872" y="16895"/>
                  <a:pt x="15959" y="16895"/>
                  <a:pt x="16098" y="16793"/>
                </a:cubicBezTo>
              </a:path>
              <a:path w="2307" h="1415">
                <a:moveTo>
                  <a:pt x="16247" y="16421"/>
                </a:moveTo>
                <a:cubicBezTo>
                  <a:pt x="16175" y="16483"/>
                  <a:pt x="15904" y="16782"/>
                  <a:pt x="16148" y="16842"/>
                </a:cubicBezTo>
                <a:cubicBezTo>
                  <a:pt x="16303" y="16880"/>
                  <a:pt x="16302" y="16673"/>
                  <a:pt x="16321" y="16594"/>
                </a:cubicBezTo>
                <a:cubicBezTo>
                  <a:pt x="16321" y="16578"/>
                  <a:pt x="16321" y="16561"/>
                  <a:pt x="16321" y="16545"/>
                </a:cubicBezTo>
                <a:cubicBezTo>
                  <a:pt x="16321" y="16802"/>
                  <a:pt x="16259" y="17157"/>
                  <a:pt x="16346" y="17388"/>
                </a:cubicBezTo>
                <a:cubicBezTo>
                  <a:pt x="16472" y="17284"/>
                  <a:pt x="16500" y="17070"/>
                  <a:pt x="16396" y="16917"/>
                </a:cubicBezTo>
                <a:cubicBezTo>
                  <a:pt x="16294" y="16766"/>
                  <a:pt x="16222" y="16868"/>
                  <a:pt x="16222" y="16743"/>
                </a:cubicBezTo>
              </a:path>
              <a:path w="2307" h="1415">
                <a:moveTo>
                  <a:pt x="16495" y="16446"/>
                </a:moveTo>
                <a:cubicBezTo>
                  <a:pt x="16495" y="16632"/>
                  <a:pt x="16481" y="16693"/>
                  <a:pt x="16594" y="16818"/>
                </a:cubicBezTo>
                <a:cubicBezTo>
                  <a:pt x="16755" y="16745"/>
                  <a:pt x="16746" y="16583"/>
                  <a:pt x="16768" y="16396"/>
                </a:cubicBezTo>
                <a:cubicBezTo>
                  <a:pt x="16788" y="16225"/>
                  <a:pt x="16833" y="16700"/>
                  <a:pt x="16991" y="16768"/>
                </a:cubicBezTo>
              </a:path>
              <a:path w="2307" h="1415">
                <a:moveTo>
                  <a:pt x="17214" y="16346"/>
                </a:moveTo>
                <a:cubicBezTo>
                  <a:pt x="17175" y="16399"/>
                  <a:pt x="16916" y="16789"/>
                  <a:pt x="17140" y="16743"/>
                </a:cubicBezTo>
                <a:cubicBezTo>
                  <a:pt x="17249" y="16721"/>
                  <a:pt x="17259" y="16579"/>
                  <a:pt x="17289" y="16495"/>
                </a:cubicBezTo>
                <a:cubicBezTo>
                  <a:pt x="17306" y="16649"/>
                  <a:pt x="17381" y="16838"/>
                  <a:pt x="17587" y="16718"/>
                </a:cubicBezTo>
                <a:cubicBezTo>
                  <a:pt x="17689" y="16590"/>
                  <a:pt x="17722" y="16544"/>
                  <a:pt x="17686" y="16421"/>
                </a:cubicBezTo>
              </a:path>
              <a:path w="2307" h="1415">
                <a:moveTo>
                  <a:pt x="17562" y="15974"/>
                </a:moveTo>
                <a:cubicBezTo>
                  <a:pt x="17562" y="16178"/>
                  <a:pt x="17600" y="16370"/>
                  <a:pt x="17636" y="16570"/>
                </a:cubicBezTo>
                <a:cubicBezTo>
                  <a:pt x="17658" y="16691"/>
                  <a:pt x="17656" y="16758"/>
                  <a:pt x="17735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6720" y="5670720"/>
            <a:ext cx="652320" cy="295200"/>
          </a:xfrm>
          <a:custGeom>
            <a:avLst/>
            <a:gdLst/>
            <a:ahLst/>
            <a:rect l="l" t="t" r="r" b="b"/>
            <a:pathLst>
              <a:path w="1811" h="820">
                <a:moveTo>
                  <a:pt x="18852" y="15850"/>
                </a:moveTo>
                <a:cubicBezTo>
                  <a:pt x="18894" y="16081"/>
                  <a:pt x="18725" y="16609"/>
                  <a:pt x="18951" y="16545"/>
                </a:cubicBezTo>
                <a:cubicBezTo>
                  <a:pt x="18967" y="16520"/>
                  <a:pt x="18984" y="16495"/>
                  <a:pt x="19000" y="16470"/>
                </a:cubicBezTo>
              </a:path>
              <a:path w="1811" h="820">
                <a:moveTo>
                  <a:pt x="19496" y="15925"/>
                </a:moveTo>
                <a:cubicBezTo>
                  <a:pt x="19135" y="16076"/>
                  <a:pt x="19113" y="16120"/>
                  <a:pt x="19447" y="16371"/>
                </a:cubicBezTo>
                <a:cubicBezTo>
                  <a:pt x="19568" y="16452"/>
                  <a:pt x="19628" y="16453"/>
                  <a:pt x="19571" y="16545"/>
                </a:cubicBezTo>
                <a:cubicBezTo>
                  <a:pt x="19455" y="16568"/>
                  <a:pt x="19422" y="16579"/>
                  <a:pt x="19348" y="16545"/>
                </a:cubicBezTo>
                <a:cubicBezTo>
                  <a:pt x="19406" y="16339"/>
                  <a:pt x="19594" y="16126"/>
                  <a:pt x="19621" y="15925"/>
                </a:cubicBezTo>
                <a:cubicBezTo>
                  <a:pt x="19593" y="15925"/>
                  <a:pt x="19587" y="15927"/>
                  <a:pt x="19621" y="15949"/>
                </a:cubicBezTo>
              </a:path>
              <a:path w="1811" h="820">
                <a:moveTo>
                  <a:pt x="20017" y="15925"/>
                </a:moveTo>
                <a:cubicBezTo>
                  <a:pt x="19853" y="16114"/>
                  <a:pt x="19776" y="16255"/>
                  <a:pt x="19844" y="16470"/>
                </a:cubicBezTo>
                <a:cubicBezTo>
                  <a:pt x="20099" y="16419"/>
                  <a:pt x="20225" y="16266"/>
                  <a:pt x="20141" y="15974"/>
                </a:cubicBezTo>
                <a:cubicBezTo>
                  <a:pt x="20085" y="15899"/>
                  <a:pt x="20081" y="15845"/>
                  <a:pt x="20042" y="15900"/>
                </a:cubicBezTo>
              </a:path>
              <a:path w="1811" h="820">
                <a:moveTo>
                  <a:pt x="20613" y="15776"/>
                </a:moveTo>
                <a:cubicBezTo>
                  <a:pt x="20531" y="15749"/>
                  <a:pt x="20507" y="15774"/>
                  <a:pt x="20464" y="15850"/>
                </a:cubicBezTo>
                <a:cubicBezTo>
                  <a:pt x="20570" y="15941"/>
                  <a:pt x="20627" y="15903"/>
                  <a:pt x="20662" y="15776"/>
                </a:cubicBezTo>
                <a:cubicBezTo>
                  <a:pt x="20565" y="15743"/>
                  <a:pt x="20527" y="15784"/>
                  <a:pt x="20538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75160" y="3687840"/>
            <a:ext cx="36720" cy="196920"/>
          </a:xfrm>
          <a:custGeom>
            <a:avLst/>
            <a:gdLst/>
            <a:ahLst/>
            <a:rect l="l" t="t" r="r" b="b"/>
            <a:pathLst>
              <a:path w="101" h="547">
                <a:moveTo>
                  <a:pt x="14932" y="10244"/>
                </a:moveTo>
                <a:cubicBezTo>
                  <a:pt x="14969" y="10403"/>
                  <a:pt x="14977" y="10681"/>
                  <a:pt x="15032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660840"/>
            <a:ext cx="13464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5701" y="10170"/>
                </a:moveTo>
                <a:cubicBezTo>
                  <a:pt x="15586" y="10225"/>
                  <a:pt x="15529" y="10246"/>
                  <a:pt x="15453" y="10344"/>
                </a:cubicBezTo>
                <a:cubicBezTo>
                  <a:pt x="15682" y="10437"/>
                  <a:pt x="15819" y="10442"/>
                  <a:pt x="15776" y="10691"/>
                </a:cubicBezTo>
                <a:cubicBezTo>
                  <a:pt x="15506" y="10676"/>
                  <a:pt x="15542" y="10498"/>
                  <a:pt x="15677" y="10269"/>
                </a:cubicBezTo>
                <a:cubicBezTo>
                  <a:pt x="15716" y="10230"/>
                  <a:pt x="15717" y="10214"/>
                  <a:pt x="15751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0920" y="3643200"/>
            <a:ext cx="135000" cy="187560"/>
          </a:xfrm>
          <a:custGeom>
            <a:avLst/>
            <a:gdLst/>
            <a:ahLst/>
            <a:rect l="l" t="t" r="r" b="b"/>
            <a:pathLst>
              <a:path w="374" h="522">
                <a:moveTo>
                  <a:pt x="16247" y="10145"/>
                </a:moveTo>
                <a:cubicBezTo>
                  <a:pt x="16192" y="10371"/>
                  <a:pt x="16146" y="10493"/>
                  <a:pt x="16321" y="10641"/>
                </a:cubicBezTo>
                <a:cubicBezTo>
                  <a:pt x="16388" y="10588"/>
                  <a:pt x="16814" y="10170"/>
                  <a:pt x="16495" y="10120"/>
                </a:cubicBezTo>
                <a:cubicBezTo>
                  <a:pt x="16323" y="10169"/>
                  <a:pt x="16266" y="10185"/>
                  <a:pt x="16197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3960" y="4152960"/>
            <a:ext cx="108000" cy="27000"/>
          </a:xfrm>
          <a:custGeom>
            <a:avLst/>
            <a:gdLst/>
            <a:ahLst/>
            <a:rect l="l" t="t" r="r" b="b"/>
            <a:pathLst>
              <a:path w="298" h="76">
                <a:moveTo>
                  <a:pt x="14263" y="11609"/>
                </a:moveTo>
                <a:cubicBezTo>
                  <a:pt x="14422" y="11586"/>
                  <a:pt x="14467" y="11583"/>
                  <a:pt x="14560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1880" y="4089240"/>
            <a:ext cx="54000" cy="135000"/>
          </a:xfrm>
          <a:custGeom>
            <a:avLst/>
            <a:gdLst/>
            <a:ahLst/>
            <a:rect l="l" t="t" r="r" b="b"/>
            <a:pathLst>
              <a:path w="149" h="373">
                <a:moveTo>
                  <a:pt x="15032" y="11361"/>
                </a:moveTo>
                <a:cubicBezTo>
                  <a:pt x="15102" y="11485"/>
                  <a:pt x="15143" y="11596"/>
                  <a:pt x="15180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1800" y="4054320"/>
            <a:ext cx="196560" cy="17784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5503" y="11261"/>
                </a:moveTo>
                <a:cubicBezTo>
                  <a:pt x="15661" y="11273"/>
                  <a:pt x="15985" y="11314"/>
                  <a:pt x="15949" y="11559"/>
                </a:cubicBezTo>
                <a:cubicBezTo>
                  <a:pt x="15924" y="11730"/>
                  <a:pt x="15696" y="11738"/>
                  <a:pt x="15577" y="11757"/>
                </a:cubicBezTo>
                <a:cubicBezTo>
                  <a:pt x="15689" y="11608"/>
                  <a:pt x="15802" y="11693"/>
                  <a:pt x="15974" y="11683"/>
                </a:cubicBezTo>
                <a:cubicBezTo>
                  <a:pt x="15999" y="11675"/>
                  <a:pt x="16024" y="11666"/>
                  <a:pt x="16049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40280" y="3990960"/>
            <a:ext cx="169920" cy="233280"/>
          </a:xfrm>
          <a:custGeom>
            <a:avLst/>
            <a:gdLst/>
            <a:ahLst/>
            <a:rect l="l" t="t" r="r" b="b"/>
            <a:pathLst>
              <a:path w="473" h="646">
                <a:moveTo>
                  <a:pt x="16222" y="11137"/>
                </a:moveTo>
                <a:cubicBezTo>
                  <a:pt x="16400" y="11178"/>
                  <a:pt x="16520" y="11135"/>
                  <a:pt x="16694" y="11088"/>
                </a:cubicBezTo>
                <a:cubicBezTo>
                  <a:pt x="16694" y="11311"/>
                  <a:pt x="16694" y="11931"/>
                  <a:pt x="16694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97320" y="4330800"/>
            <a:ext cx="973440" cy="71280"/>
          </a:xfrm>
          <a:custGeom>
            <a:avLst/>
            <a:gdLst/>
            <a:ahLst/>
            <a:rect l="l" t="t" r="r" b="b"/>
            <a:pathLst>
              <a:path w="2705" h="200">
                <a:moveTo>
                  <a:pt x="14436" y="12229"/>
                </a:moveTo>
                <a:cubicBezTo>
                  <a:pt x="15218" y="12137"/>
                  <a:pt x="16004" y="12030"/>
                  <a:pt x="16793" y="12030"/>
                </a:cubicBezTo>
                <a:cubicBezTo>
                  <a:pt x="16934" y="12030"/>
                  <a:pt x="17207" y="12055"/>
                  <a:pt x="17066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97360" y="4473720"/>
            <a:ext cx="169920" cy="196560"/>
          </a:xfrm>
          <a:custGeom>
            <a:avLst/>
            <a:gdLst/>
            <a:ahLst/>
            <a:rect l="l" t="t" r="r" b="b"/>
            <a:pathLst>
              <a:path w="473" h="547">
                <a:moveTo>
                  <a:pt x="16197" y="12477"/>
                </a:moveTo>
                <a:cubicBezTo>
                  <a:pt x="16200" y="12476"/>
                  <a:pt x="16269" y="12456"/>
                  <a:pt x="16272" y="12452"/>
                </a:cubicBezTo>
                <a:cubicBezTo>
                  <a:pt x="16290" y="12429"/>
                  <a:pt x="16302" y="12427"/>
                  <a:pt x="16272" y="12427"/>
                </a:cubicBezTo>
                <a:cubicBezTo>
                  <a:pt x="16162" y="12435"/>
                  <a:pt x="15986" y="12427"/>
                  <a:pt x="15900" y="12477"/>
                </a:cubicBezTo>
                <a:cubicBezTo>
                  <a:pt x="15835" y="12514"/>
                  <a:pt x="15875" y="12685"/>
                  <a:pt x="15875" y="12750"/>
                </a:cubicBezTo>
                <a:cubicBezTo>
                  <a:pt x="15875" y="12758"/>
                  <a:pt x="15875" y="12766"/>
                  <a:pt x="15875" y="12774"/>
                </a:cubicBezTo>
                <a:cubicBezTo>
                  <a:pt x="16005" y="12743"/>
                  <a:pt x="16019" y="12634"/>
                  <a:pt x="16197" y="12650"/>
                </a:cubicBezTo>
                <a:cubicBezTo>
                  <a:pt x="16514" y="12678"/>
                  <a:pt x="16132" y="12953"/>
                  <a:pt x="16024" y="12973"/>
                </a:cubicBezTo>
                <a:cubicBezTo>
                  <a:pt x="15901" y="12973"/>
                  <a:pt x="15870" y="12991"/>
                  <a:pt x="15825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38920" y="4429080"/>
            <a:ext cx="187200" cy="18720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6495" y="12328"/>
                </a:moveTo>
                <a:cubicBezTo>
                  <a:pt x="16580" y="12328"/>
                  <a:pt x="16801" y="12251"/>
                  <a:pt x="16842" y="12353"/>
                </a:cubicBezTo>
                <a:cubicBezTo>
                  <a:pt x="16815" y="12465"/>
                  <a:pt x="16798" y="12507"/>
                  <a:pt x="16718" y="12551"/>
                </a:cubicBezTo>
                <a:cubicBezTo>
                  <a:pt x="16702" y="12559"/>
                  <a:pt x="16685" y="12568"/>
                  <a:pt x="16669" y="12576"/>
                </a:cubicBezTo>
                <a:cubicBezTo>
                  <a:pt x="16832" y="12553"/>
                  <a:pt x="16892" y="12556"/>
                  <a:pt x="17016" y="12650"/>
                </a:cubicBezTo>
                <a:cubicBezTo>
                  <a:pt x="16855" y="12853"/>
                  <a:pt x="16753" y="12854"/>
                  <a:pt x="16520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Unit 6: 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nd use the properties of angle bis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Comic Sans MS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sect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to bisect means to cut something in half, bi = 2 and ‘sect’ = to cut…remember the word ‘disect’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a ray or line that bisects another ray or line at a 90° 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a ray that divides an angle into 2 new angles that have the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Comic Sans MS"/>
              </a:rPr>
              <a:t>same degree measure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use the properties of angle bi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066680" y="4723920"/>
            <a:ext cx="685800" cy="1600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324480"/>
            <a:ext cx="17528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00600" y="5333760"/>
            <a:ext cx="1676520" cy="990360"/>
          </a:xfrm>
          <a:prstGeom prst="line">
            <a:avLst/>
          </a:prstGeom>
          <a:ln w="349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800600" y="4723920"/>
            <a:ext cx="685800" cy="1600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6324480"/>
            <a:ext cx="17524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638680"/>
            <a:ext cx="60984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If a right angle is bisected, what are the measures of each of the new ang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If an angle has been bisected and one of the new angles measures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, what was the measure of the original 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 What angle bisector appears to bisect angle AGC?  Are there any perpendicular bisectors in the figure below?  What angle does ray GE appear to bi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743200" y="5105520"/>
            <a:ext cx="5486040" cy="1752120"/>
            <a:chOff x="2743200" y="5105520"/>
            <a:chExt cx="5486040" cy="1752120"/>
          </a:xfrm>
        </p:grpSpPr>
        <p:sp>
          <p:nvSpPr>
            <p:cNvPr id="146" name=""/>
            <p:cNvSpPr/>
            <p:nvPr/>
          </p:nvSpPr>
          <p:spPr>
            <a:xfrm>
              <a:off x="2743200" y="6419880"/>
              <a:ext cx="33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488840" y="5251320"/>
              <a:ext cx="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3366720" y="5397480"/>
              <a:ext cx="112176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88840" y="5397480"/>
              <a:ext cx="62352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488840" y="5835600"/>
              <a:ext cx="124668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64280" y="6419880"/>
              <a:ext cx="37368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3200" y="6419880"/>
              <a:ext cx="374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0440" y="641988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66720" y="525168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8840" y="5105520"/>
              <a:ext cx="3740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7440" y="5397480"/>
              <a:ext cx="3740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10960" y="583560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34480" y="5543640"/>
              <a:ext cx="19947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80" y="272988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46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46760" y="1893960"/>
            <a:ext cx="1403280" cy="357120"/>
          </a:xfrm>
          <a:custGeom>
            <a:avLst/>
            <a:gdLst/>
            <a:ahLst/>
            <a:rect l="l" t="t" r="r" b="b"/>
            <a:pathLst>
              <a:path w="3895" h="993">
                <a:moveTo>
                  <a:pt x="14387" y="5482"/>
                </a:moveTo>
                <a:cubicBezTo>
                  <a:pt x="14348" y="5352"/>
                  <a:pt x="14232" y="5207"/>
                  <a:pt x="14064" y="5259"/>
                </a:cubicBezTo>
                <a:cubicBezTo>
                  <a:pt x="13874" y="5318"/>
                  <a:pt x="13506" y="5735"/>
                  <a:pt x="13915" y="5779"/>
                </a:cubicBezTo>
                <a:cubicBezTo>
                  <a:pt x="14164" y="5806"/>
                  <a:pt x="14276" y="5588"/>
                  <a:pt x="14412" y="5432"/>
                </a:cubicBezTo>
                <a:cubicBezTo>
                  <a:pt x="14388" y="5649"/>
                  <a:pt x="14331" y="5859"/>
                  <a:pt x="14312" y="6077"/>
                </a:cubicBezTo>
                <a:cubicBezTo>
                  <a:pt x="14312" y="6155"/>
                  <a:pt x="14297" y="6202"/>
                  <a:pt x="14337" y="6152"/>
                </a:cubicBezTo>
              </a:path>
              <a:path w="3895" h="993">
                <a:moveTo>
                  <a:pt x="14734" y="5457"/>
                </a:moveTo>
                <a:cubicBezTo>
                  <a:pt x="14593" y="5583"/>
                  <a:pt x="14446" y="5819"/>
                  <a:pt x="14511" y="6028"/>
                </a:cubicBezTo>
                <a:cubicBezTo>
                  <a:pt x="14544" y="6069"/>
                  <a:pt x="14577" y="6111"/>
                  <a:pt x="14610" y="6152"/>
                </a:cubicBezTo>
                <a:cubicBezTo>
                  <a:pt x="14843" y="6142"/>
                  <a:pt x="15111" y="6072"/>
                  <a:pt x="15056" y="5755"/>
                </a:cubicBezTo>
                <a:cubicBezTo>
                  <a:pt x="15030" y="5604"/>
                  <a:pt x="14903" y="5524"/>
                  <a:pt x="14784" y="5457"/>
                </a:cubicBezTo>
              </a:path>
              <a:path w="3895" h="993">
                <a:moveTo>
                  <a:pt x="15478" y="5259"/>
                </a:moveTo>
                <a:cubicBezTo>
                  <a:pt x="15351" y="5301"/>
                  <a:pt x="15341" y="5295"/>
                  <a:pt x="15280" y="5407"/>
                </a:cubicBezTo>
                <a:cubicBezTo>
                  <a:pt x="15320" y="5418"/>
                  <a:pt x="15600" y="5467"/>
                  <a:pt x="15528" y="5333"/>
                </a:cubicBezTo>
                <a:cubicBezTo>
                  <a:pt x="15473" y="5305"/>
                  <a:pt x="15450" y="5297"/>
                  <a:pt x="15404" y="5308"/>
                </a:cubicBezTo>
              </a:path>
              <a:path w="3895" h="993">
                <a:moveTo>
                  <a:pt x="15875" y="5655"/>
                </a:moveTo>
                <a:cubicBezTo>
                  <a:pt x="16115" y="5655"/>
                  <a:pt x="16354" y="5655"/>
                  <a:pt x="16594" y="5655"/>
                </a:cubicBezTo>
              </a:path>
              <a:path w="3895" h="993">
                <a:moveTo>
                  <a:pt x="16346" y="5259"/>
                </a:moveTo>
                <a:cubicBezTo>
                  <a:pt x="16346" y="5267"/>
                  <a:pt x="16346" y="5275"/>
                  <a:pt x="16346" y="5283"/>
                </a:cubicBezTo>
              </a:path>
              <a:path w="3895" h="993">
                <a:moveTo>
                  <a:pt x="16321" y="6003"/>
                </a:moveTo>
                <a:cubicBezTo>
                  <a:pt x="16313" y="6003"/>
                  <a:pt x="16305" y="6003"/>
                  <a:pt x="16297" y="6003"/>
                </a:cubicBezTo>
              </a:path>
              <a:path w="3895" h="993">
                <a:moveTo>
                  <a:pt x="17214" y="5655"/>
                </a:moveTo>
                <a:cubicBezTo>
                  <a:pt x="17175" y="5642"/>
                  <a:pt x="17205" y="5644"/>
                  <a:pt x="17165" y="5631"/>
                </a:cubicBezTo>
                <a:cubicBezTo>
                  <a:pt x="17175" y="5602"/>
                  <a:pt x="17207" y="5565"/>
                  <a:pt x="17239" y="5531"/>
                </a:cubicBezTo>
                <a:cubicBezTo>
                  <a:pt x="17298" y="5469"/>
                  <a:pt x="17379" y="5437"/>
                  <a:pt x="17462" y="5432"/>
                </a:cubicBezTo>
                <a:cubicBezTo>
                  <a:pt x="17526" y="5428"/>
                  <a:pt x="17586" y="5470"/>
                  <a:pt x="17611" y="5531"/>
                </a:cubicBezTo>
                <a:cubicBezTo>
                  <a:pt x="17630" y="5576"/>
                  <a:pt x="17560" y="5658"/>
                  <a:pt x="17537" y="5680"/>
                </a:cubicBezTo>
                <a:cubicBezTo>
                  <a:pt x="17432" y="5777"/>
                  <a:pt x="17317" y="5851"/>
                  <a:pt x="17214" y="5953"/>
                </a:cubicBezTo>
                <a:cubicBezTo>
                  <a:pt x="17125" y="6042"/>
                  <a:pt x="17023" y="6185"/>
                  <a:pt x="16942" y="6251"/>
                </a:cubicBezTo>
                <a:cubicBezTo>
                  <a:pt x="17064" y="6181"/>
                  <a:pt x="17101" y="6076"/>
                  <a:pt x="17239" y="6028"/>
                </a:cubicBezTo>
                <a:cubicBezTo>
                  <a:pt x="17320" y="6000"/>
                  <a:pt x="17393" y="6146"/>
                  <a:pt x="17462" y="6152"/>
                </a:cubicBezTo>
                <a:cubicBezTo>
                  <a:pt x="17563" y="6132"/>
                  <a:pt x="17583" y="6134"/>
                  <a:pt x="17636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07080" y="2000160"/>
            <a:ext cx="127080" cy="71640"/>
          </a:xfrm>
          <a:custGeom>
            <a:avLst/>
            <a:gdLst/>
            <a:ahLst/>
            <a:rect l="l" t="t" r="r" b="b"/>
            <a:pathLst>
              <a:path w="349" h="200">
                <a:moveTo>
                  <a:pt x="18355" y="5556"/>
                </a:moveTo>
                <a:cubicBezTo>
                  <a:pt x="18471" y="5556"/>
                  <a:pt x="18587" y="5556"/>
                  <a:pt x="18703" y="5556"/>
                </a:cubicBezTo>
              </a:path>
              <a:path w="349" h="200">
                <a:moveTo>
                  <a:pt x="18355" y="5755"/>
                </a:moveTo>
                <a:cubicBezTo>
                  <a:pt x="18456" y="5748"/>
                  <a:pt x="18591" y="5708"/>
                  <a:pt x="18653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1803240"/>
            <a:ext cx="731880" cy="358920"/>
          </a:xfrm>
          <a:custGeom>
            <a:avLst/>
            <a:gdLst/>
            <a:ahLst/>
            <a:rect l="l" t="t" r="r" b="b"/>
            <a:pathLst>
              <a:path w="2035" h="993">
                <a:moveTo>
                  <a:pt x="19546" y="5432"/>
                </a:moveTo>
                <a:cubicBezTo>
                  <a:pt x="19498" y="5504"/>
                  <a:pt x="19483" y="5525"/>
                  <a:pt x="19472" y="5581"/>
                </a:cubicBezTo>
                <a:cubicBezTo>
                  <a:pt x="19586" y="5671"/>
                  <a:pt x="19841" y="5687"/>
                  <a:pt x="19993" y="5606"/>
                </a:cubicBezTo>
                <a:cubicBezTo>
                  <a:pt x="20009" y="5581"/>
                  <a:pt x="20026" y="5556"/>
                  <a:pt x="20042" y="5531"/>
                </a:cubicBezTo>
              </a:path>
              <a:path w="2035" h="993">
                <a:moveTo>
                  <a:pt x="19993" y="5209"/>
                </a:moveTo>
                <a:cubicBezTo>
                  <a:pt x="19913" y="5447"/>
                  <a:pt x="19914" y="5683"/>
                  <a:pt x="19869" y="5928"/>
                </a:cubicBezTo>
                <a:cubicBezTo>
                  <a:pt x="19847" y="5994"/>
                  <a:pt x="19839" y="6028"/>
                  <a:pt x="19844" y="5953"/>
                </a:cubicBezTo>
              </a:path>
              <a:path w="2035" h="993">
                <a:moveTo>
                  <a:pt x="20762" y="5308"/>
                </a:moveTo>
                <a:cubicBezTo>
                  <a:pt x="20589" y="5308"/>
                  <a:pt x="20494" y="5255"/>
                  <a:pt x="20414" y="5407"/>
                </a:cubicBezTo>
                <a:cubicBezTo>
                  <a:pt x="20373" y="5490"/>
                  <a:pt x="20365" y="5507"/>
                  <a:pt x="20340" y="5556"/>
                </a:cubicBezTo>
                <a:cubicBezTo>
                  <a:pt x="20566" y="5556"/>
                  <a:pt x="20729" y="5570"/>
                  <a:pt x="20935" y="5655"/>
                </a:cubicBezTo>
                <a:cubicBezTo>
                  <a:pt x="20875" y="5854"/>
                  <a:pt x="20648" y="6091"/>
                  <a:pt x="20389" y="5904"/>
                </a:cubicBezTo>
                <a:cubicBezTo>
                  <a:pt x="20316" y="5757"/>
                  <a:pt x="20290" y="5710"/>
                  <a:pt x="20414" y="5631"/>
                </a:cubicBezTo>
              </a:path>
              <a:path w="2035" h="993">
                <a:moveTo>
                  <a:pt x="21406" y="5011"/>
                </a:moveTo>
                <a:cubicBezTo>
                  <a:pt x="21347" y="5028"/>
                  <a:pt x="21226" y="5123"/>
                  <a:pt x="21307" y="5209"/>
                </a:cubicBezTo>
                <a:cubicBezTo>
                  <a:pt x="21420" y="5328"/>
                  <a:pt x="21508" y="5154"/>
                  <a:pt x="21456" y="50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70200" y="3348000"/>
            <a:ext cx="1509840" cy="268200"/>
          </a:xfrm>
          <a:custGeom>
            <a:avLst/>
            <a:gdLst/>
            <a:ahLst/>
            <a:rect l="l" t="t" r="r" b="b"/>
            <a:pathLst>
              <a:path w="4193" h="745">
                <a:moveTo>
                  <a:pt x="10716" y="9302"/>
                </a:moveTo>
                <a:cubicBezTo>
                  <a:pt x="10557" y="9302"/>
                  <a:pt x="10379" y="9334"/>
                  <a:pt x="10244" y="9426"/>
                </a:cubicBezTo>
                <a:cubicBezTo>
                  <a:pt x="10228" y="9451"/>
                  <a:pt x="10211" y="9475"/>
                  <a:pt x="10195" y="9500"/>
                </a:cubicBezTo>
                <a:cubicBezTo>
                  <a:pt x="10302" y="9586"/>
                  <a:pt x="10773" y="9781"/>
                  <a:pt x="10691" y="9971"/>
                </a:cubicBezTo>
                <a:cubicBezTo>
                  <a:pt x="10573" y="10042"/>
                  <a:pt x="10539" y="10067"/>
                  <a:pt x="10443" y="10046"/>
                </a:cubicBezTo>
                <a:cubicBezTo>
                  <a:pt x="10402" y="9759"/>
                  <a:pt x="10557" y="9635"/>
                  <a:pt x="10691" y="9376"/>
                </a:cubicBezTo>
                <a:cubicBezTo>
                  <a:pt x="10691" y="9351"/>
                  <a:pt x="10691" y="9343"/>
                  <a:pt x="10691" y="9376"/>
                </a:cubicBezTo>
              </a:path>
              <a:path w="4193" h="745">
                <a:moveTo>
                  <a:pt x="10790" y="9401"/>
                </a:moveTo>
                <a:cubicBezTo>
                  <a:pt x="10859" y="9349"/>
                  <a:pt x="10959" y="9377"/>
                  <a:pt x="11013" y="9451"/>
                </a:cubicBezTo>
                <a:cubicBezTo>
                  <a:pt x="11084" y="9549"/>
                  <a:pt x="10949" y="9614"/>
                  <a:pt x="10889" y="9674"/>
                </a:cubicBezTo>
                <a:cubicBezTo>
                  <a:pt x="10976" y="9630"/>
                  <a:pt x="11281" y="9555"/>
                  <a:pt x="11286" y="9748"/>
                </a:cubicBezTo>
                <a:cubicBezTo>
                  <a:pt x="11291" y="9925"/>
                  <a:pt x="10830" y="10121"/>
                  <a:pt x="10716" y="9971"/>
                </a:cubicBezTo>
                <a:cubicBezTo>
                  <a:pt x="10724" y="9938"/>
                  <a:pt x="10732" y="9905"/>
                  <a:pt x="10740" y="9872"/>
                </a:cubicBezTo>
              </a:path>
              <a:path w="4193" h="745">
                <a:moveTo>
                  <a:pt x="11733" y="9525"/>
                </a:moveTo>
                <a:cubicBezTo>
                  <a:pt x="11741" y="9564"/>
                  <a:pt x="11843" y="9877"/>
                  <a:pt x="11757" y="9847"/>
                </a:cubicBezTo>
              </a:path>
              <a:path w="4193" h="745">
                <a:moveTo>
                  <a:pt x="11559" y="9699"/>
                </a:moveTo>
                <a:cubicBezTo>
                  <a:pt x="11710" y="9657"/>
                  <a:pt x="11852" y="9611"/>
                  <a:pt x="12005" y="9575"/>
                </a:cubicBezTo>
              </a:path>
              <a:path w="4193" h="745">
                <a:moveTo>
                  <a:pt x="12626" y="9302"/>
                </a:moveTo>
                <a:cubicBezTo>
                  <a:pt x="12293" y="9450"/>
                  <a:pt x="12234" y="9467"/>
                  <a:pt x="12526" y="9699"/>
                </a:cubicBezTo>
                <a:cubicBezTo>
                  <a:pt x="12576" y="9740"/>
                  <a:pt x="12625" y="9782"/>
                  <a:pt x="12675" y="9823"/>
                </a:cubicBezTo>
                <a:cubicBezTo>
                  <a:pt x="12701" y="9901"/>
                  <a:pt x="12706" y="9927"/>
                  <a:pt x="12626" y="9947"/>
                </a:cubicBezTo>
                <a:cubicBezTo>
                  <a:pt x="12326" y="9788"/>
                  <a:pt x="12530" y="9638"/>
                  <a:pt x="12700" y="9401"/>
                </a:cubicBezTo>
                <a:cubicBezTo>
                  <a:pt x="12717" y="9376"/>
                  <a:pt x="12733" y="9352"/>
                  <a:pt x="12750" y="9327"/>
                </a:cubicBezTo>
              </a:path>
              <a:path w="4193" h="745">
                <a:moveTo>
                  <a:pt x="12973" y="9376"/>
                </a:moveTo>
                <a:cubicBezTo>
                  <a:pt x="13034" y="9357"/>
                  <a:pt x="13365" y="9247"/>
                  <a:pt x="13345" y="9376"/>
                </a:cubicBezTo>
                <a:cubicBezTo>
                  <a:pt x="13328" y="9486"/>
                  <a:pt x="13228" y="9526"/>
                  <a:pt x="13146" y="9575"/>
                </a:cubicBezTo>
                <a:cubicBezTo>
                  <a:pt x="13154" y="9567"/>
                  <a:pt x="13163" y="9558"/>
                  <a:pt x="13171" y="9550"/>
                </a:cubicBezTo>
                <a:cubicBezTo>
                  <a:pt x="13409" y="9576"/>
                  <a:pt x="13418" y="9546"/>
                  <a:pt x="13519" y="9748"/>
                </a:cubicBezTo>
                <a:cubicBezTo>
                  <a:pt x="13327" y="9897"/>
                  <a:pt x="13223" y="9989"/>
                  <a:pt x="13022" y="9823"/>
                </a:cubicBezTo>
              </a:path>
              <a:path w="4193" h="745">
                <a:moveTo>
                  <a:pt x="13866" y="9500"/>
                </a:moveTo>
                <a:cubicBezTo>
                  <a:pt x="14006" y="9476"/>
                  <a:pt x="14143" y="9457"/>
                  <a:pt x="14288" y="9451"/>
                </a:cubicBezTo>
              </a:path>
              <a:path w="4193" h="745">
                <a:moveTo>
                  <a:pt x="13965" y="9699"/>
                </a:moveTo>
                <a:cubicBezTo>
                  <a:pt x="14173" y="9673"/>
                  <a:pt x="14249" y="9662"/>
                  <a:pt x="14387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02160" y="3259080"/>
            <a:ext cx="822600" cy="312840"/>
          </a:xfrm>
          <a:custGeom>
            <a:avLst/>
            <a:gdLst/>
            <a:ahLst/>
            <a:rect l="l" t="t" r="r" b="b"/>
            <a:pathLst>
              <a:path w="2283" h="869">
                <a:moveTo>
                  <a:pt x="15007" y="9252"/>
                </a:moveTo>
                <a:cubicBezTo>
                  <a:pt x="15043" y="9435"/>
                  <a:pt x="15120" y="9615"/>
                  <a:pt x="15156" y="9798"/>
                </a:cubicBezTo>
                <a:cubicBezTo>
                  <a:pt x="15156" y="9856"/>
                  <a:pt x="15156" y="9897"/>
                  <a:pt x="15156" y="9847"/>
                </a:cubicBezTo>
              </a:path>
              <a:path w="2283" h="869">
                <a:moveTo>
                  <a:pt x="15553" y="9203"/>
                </a:moveTo>
                <a:cubicBezTo>
                  <a:pt x="15553" y="9392"/>
                  <a:pt x="15494" y="9680"/>
                  <a:pt x="15602" y="9847"/>
                </a:cubicBezTo>
                <a:cubicBezTo>
                  <a:pt x="15726" y="10038"/>
                  <a:pt x="16031" y="9884"/>
                  <a:pt x="16098" y="9723"/>
                </a:cubicBezTo>
                <a:cubicBezTo>
                  <a:pt x="16098" y="9682"/>
                  <a:pt x="16098" y="9640"/>
                  <a:pt x="16098" y="9599"/>
                </a:cubicBezTo>
                <a:cubicBezTo>
                  <a:pt x="15971" y="9591"/>
                  <a:pt x="15633" y="9649"/>
                  <a:pt x="15701" y="9872"/>
                </a:cubicBezTo>
                <a:cubicBezTo>
                  <a:pt x="15726" y="9872"/>
                  <a:pt x="15751" y="9872"/>
                  <a:pt x="15776" y="9872"/>
                </a:cubicBezTo>
              </a:path>
              <a:path w="2283" h="869">
                <a:moveTo>
                  <a:pt x="16396" y="9178"/>
                </a:moveTo>
                <a:cubicBezTo>
                  <a:pt x="16356" y="9358"/>
                  <a:pt x="16290" y="9617"/>
                  <a:pt x="16346" y="9798"/>
                </a:cubicBezTo>
                <a:cubicBezTo>
                  <a:pt x="16371" y="9831"/>
                  <a:pt x="16396" y="9864"/>
                  <a:pt x="16421" y="9897"/>
                </a:cubicBezTo>
                <a:cubicBezTo>
                  <a:pt x="16540" y="9904"/>
                  <a:pt x="16811" y="9888"/>
                  <a:pt x="16818" y="9699"/>
                </a:cubicBezTo>
                <a:cubicBezTo>
                  <a:pt x="16801" y="9682"/>
                  <a:pt x="16785" y="9666"/>
                  <a:pt x="16768" y="9649"/>
                </a:cubicBezTo>
                <a:cubicBezTo>
                  <a:pt x="16707" y="9667"/>
                  <a:pt x="16475" y="9897"/>
                  <a:pt x="16545" y="9897"/>
                </a:cubicBezTo>
                <a:cubicBezTo>
                  <a:pt x="16586" y="9880"/>
                  <a:pt x="16628" y="9864"/>
                  <a:pt x="16669" y="9847"/>
                </a:cubicBezTo>
              </a:path>
              <a:path w="2283" h="869">
                <a:moveTo>
                  <a:pt x="17214" y="9054"/>
                </a:moveTo>
                <a:cubicBezTo>
                  <a:pt x="17110" y="9111"/>
                  <a:pt x="17110" y="9109"/>
                  <a:pt x="17090" y="9227"/>
                </a:cubicBezTo>
                <a:cubicBezTo>
                  <a:pt x="17146" y="9243"/>
                  <a:pt x="17366" y="9209"/>
                  <a:pt x="17289" y="9079"/>
                </a:cubicBezTo>
                <a:cubicBezTo>
                  <a:pt x="17214" y="9079"/>
                  <a:pt x="17172" y="9084"/>
                  <a:pt x="17115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35800" y="3821040"/>
            <a:ext cx="1100160" cy="339840"/>
          </a:xfrm>
          <a:custGeom>
            <a:avLst/>
            <a:gdLst/>
            <a:ahLst/>
            <a:rect l="l" t="t" r="r" b="b"/>
            <a:pathLst>
              <a:path w="3052" h="944">
                <a:moveTo>
                  <a:pt x="18777" y="10790"/>
                </a:moveTo>
                <a:cubicBezTo>
                  <a:pt x="18798" y="10783"/>
                  <a:pt x="18845" y="10765"/>
                  <a:pt x="18802" y="10765"/>
                </a:cubicBezTo>
                <a:cubicBezTo>
                  <a:pt x="18770" y="10765"/>
                  <a:pt x="18736" y="10773"/>
                  <a:pt x="18728" y="10790"/>
                </a:cubicBezTo>
                <a:cubicBezTo>
                  <a:pt x="18711" y="10826"/>
                  <a:pt x="18708" y="10818"/>
                  <a:pt x="18678" y="10840"/>
                </a:cubicBezTo>
                <a:cubicBezTo>
                  <a:pt x="18659" y="10854"/>
                  <a:pt x="18633" y="10907"/>
                  <a:pt x="18604" y="10939"/>
                </a:cubicBezTo>
                <a:cubicBezTo>
                  <a:pt x="18564" y="10985"/>
                  <a:pt x="18492" y="11083"/>
                  <a:pt x="18455" y="11112"/>
                </a:cubicBezTo>
                <a:cubicBezTo>
                  <a:pt x="18418" y="11141"/>
                  <a:pt x="18424" y="11134"/>
                  <a:pt x="18380" y="11187"/>
                </a:cubicBezTo>
                <a:cubicBezTo>
                  <a:pt x="18342" y="11233"/>
                  <a:pt x="18310" y="11283"/>
                  <a:pt x="18281" y="11336"/>
                </a:cubicBezTo>
                <a:cubicBezTo>
                  <a:pt x="18254" y="11386"/>
                  <a:pt x="18227" y="11439"/>
                  <a:pt x="18207" y="11485"/>
                </a:cubicBezTo>
                <a:cubicBezTo>
                  <a:pt x="18176" y="11557"/>
                  <a:pt x="18173" y="11511"/>
                  <a:pt x="18157" y="11559"/>
                </a:cubicBezTo>
                <a:cubicBezTo>
                  <a:pt x="18179" y="11553"/>
                  <a:pt x="18237" y="11546"/>
                  <a:pt x="18256" y="11534"/>
                </a:cubicBezTo>
                <a:cubicBezTo>
                  <a:pt x="18297" y="11510"/>
                  <a:pt x="18305" y="11509"/>
                  <a:pt x="18355" y="11509"/>
                </a:cubicBezTo>
                <a:cubicBezTo>
                  <a:pt x="18421" y="11509"/>
                  <a:pt x="18450" y="11501"/>
                  <a:pt x="18504" y="11485"/>
                </a:cubicBezTo>
                <a:cubicBezTo>
                  <a:pt x="18545" y="11473"/>
                  <a:pt x="18592" y="11471"/>
                  <a:pt x="18628" y="11460"/>
                </a:cubicBezTo>
                <a:cubicBezTo>
                  <a:pt x="18722" y="11431"/>
                  <a:pt x="18836" y="11465"/>
                  <a:pt x="18926" y="11435"/>
                </a:cubicBezTo>
                <a:cubicBezTo>
                  <a:pt x="18952" y="11426"/>
                  <a:pt x="18997" y="11435"/>
                  <a:pt x="19025" y="11435"/>
                </a:cubicBezTo>
              </a:path>
              <a:path w="3052" h="944">
                <a:moveTo>
                  <a:pt x="19472" y="10790"/>
                </a:moveTo>
                <a:cubicBezTo>
                  <a:pt x="19434" y="10996"/>
                  <a:pt x="19355" y="11184"/>
                  <a:pt x="19298" y="11385"/>
                </a:cubicBezTo>
                <a:cubicBezTo>
                  <a:pt x="19298" y="11393"/>
                  <a:pt x="19298" y="11402"/>
                  <a:pt x="19298" y="11410"/>
                </a:cubicBezTo>
                <a:cubicBezTo>
                  <a:pt x="19329" y="11180"/>
                  <a:pt x="19391" y="10986"/>
                  <a:pt x="19521" y="10790"/>
                </a:cubicBezTo>
                <a:cubicBezTo>
                  <a:pt x="19617" y="10644"/>
                  <a:pt x="19629" y="10642"/>
                  <a:pt x="19769" y="10666"/>
                </a:cubicBezTo>
                <a:cubicBezTo>
                  <a:pt x="19803" y="10878"/>
                  <a:pt x="19829" y="11050"/>
                  <a:pt x="19769" y="11261"/>
                </a:cubicBezTo>
                <a:cubicBezTo>
                  <a:pt x="19761" y="11278"/>
                  <a:pt x="19753" y="11294"/>
                  <a:pt x="19745" y="11311"/>
                </a:cubicBezTo>
              </a:path>
              <a:path w="3052" h="944">
                <a:moveTo>
                  <a:pt x="19397" y="11112"/>
                </a:moveTo>
                <a:cubicBezTo>
                  <a:pt x="19536" y="11074"/>
                  <a:pt x="19677" y="11013"/>
                  <a:pt x="19819" y="10988"/>
                </a:cubicBezTo>
                <a:cubicBezTo>
                  <a:pt x="19836" y="10988"/>
                  <a:pt x="19852" y="10988"/>
                  <a:pt x="19869" y="10988"/>
                </a:cubicBezTo>
              </a:path>
              <a:path w="3052" h="944">
                <a:moveTo>
                  <a:pt x="20365" y="10691"/>
                </a:moveTo>
                <a:cubicBezTo>
                  <a:pt x="20408" y="10676"/>
                  <a:pt x="20366" y="10634"/>
                  <a:pt x="20315" y="10616"/>
                </a:cubicBezTo>
                <a:cubicBezTo>
                  <a:pt x="20170" y="10565"/>
                  <a:pt x="20059" y="10796"/>
                  <a:pt x="20042" y="10889"/>
                </a:cubicBezTo>
                <a:cubicBezTo>
                  <a:pt x="20008" y="11069"/>
                  <a:pt x="20080" y="11411"/>
                  <a:pt x="20340" y="11361"/>
                </a:cubicBezTo>
                <a:cubicBezTo>
                  <a:pt x="20387" y="11352"/>
                  <a:pt x="20615" y="11190"/>
                  <a:pt x="20563" y="11112"/>
                </a:cubicBezTo>
                <a:cubicBezTo>
                  <a:pt x="20555" y="11112"/>
                  <a:pt x="20546" y="11112"/>
                  <a:pt x="20538" y="11112"/>
                </a:cubicBezTo>
              </a:path>
              <a:path w="3052" h="944">
                <a:moveTo>
                  <a:pt x="20538" y="11013"/>
                </a:moveTo>
                <a:cubicBezTo>
                  <a:pt x="20464" y="11013"/>
                  <a:pt x="20389" y="11013"/>
                  <a:pt x="20315" y="11013"/>
                </a:cubicBezTo>
                <a:cubicBezTo>
                  <a:pt x="20332" y="11063"/>
                  <a:pt x="20402" y="10997"/>
                  <a:pt x="20464" y="10988"/>
                </a:cubicBezTo>
                <a:cubicBezTo>
                  <a:pt x="20489" y="10988"/>
                  <a:pt x="20513" y="10988"/>
                  <a:pt x="20538" y="10988"/>
                </a:cubicBezTo>
              </a:path>
              <a:path w="3052" h="944">
                <a:moveTo>
                  <a:pt x="20985" y="10765"/>
                </a:moveTo>
                <a:cubicBezTo>
                  <a:pt x="21022" y="10716"/>
                  <a:pt x="21013" y="10730"/>
                  <a:pt x="20985" y="10666"/>
                </a:cubicBezTo>
                <a:cubicBezTo>
                  <a:pt x="20922" y="10603"/>
                  <a:pt x="20749" y="10875"/>
                  <a:pt x="20737" y="10939"/>
                </a:cubicBezTo>
                <a:cubicBezTo>
                  <a:pt x="20673" y="11290"/>
                  <a:pt x="21031" y="11113"/>
                  <a:pt x="21183" y="11063"/>
                </a:cubicBezTo>
                <a:cubicBezTo>
                  <a:pt x="21191" y="11063"/>
                  <a:pt x="21200" y="11063"/>
                  <a:pt x="21208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09040" y="2928960"/>
            <a:ext cx="384120" cy="839880"/>
          </a:xfrm>
          <a:custGeom>
            <a:avLst/>
            <a:gdLst/>
            <a:ahLst/>
            <a:rect l="l" t="t" r="r" b="b"/>
            <a:pathLst>
              <a:path w="1067" h="2333">
                <a:moveTo>
                  <a:pt x="24755" y="8136"/>
                </a:moveTo>
                <a:cubicBezTo>
                  <a:pt x="24634" y="8188"/>
                  <a:pt x="24507" y="8255"/>
                  <a:pt x="24383" y="8310"/>
                </a:cubicBezTo>
                <a:cubicBezTo>
                  <a:pt x="24234" y="8376"/>
                  <a:pt x="24082" y="8472"/>
                  <a:pt x="23937" y="8533"/>
                </a:cubicBezTo>
                <a:cubicBezTo>
                  <a:pt x="23929" y="8533"/>
                  <a:pt x="23920" y="8533"/>
                  <a:pt x="23912" y="8533"/>
                </a:cubicBezTo>
                <a:cubicBezTo>
                  <a:pt x="24031" y="8550"/>
                  <a:pt x="24043" y="8584"/>
                  <a:pt x="24160" y="8632"/>
                </a:cubicBezTo>
                <a:cubicBezTo>
                  <a:pt x="24356" y="8712"/>
                  <a:pt x="24552" y="8774"/>
                  <a:pt x="24755" y="8830"/>
                </a:cubicBezTo>
                <a:cubicBezTo>
                  <a:pt x="24820" y="8848"/>
                  <a:pt x="24876" y="8875"/>
                  <a:pt x="24929" y="8905"/>
                </a:cubicBezTo>
                <a:cubicBezTo>
                  <a:pt x="24957" y="8905"/>
                  <a:pt x="24968" y="8907"/>
                  <a:pt x="24978" y="8930"/>
                </a:cubicBezTo>
              </a:path>
              <a:path w="1067" h="2333">
                <a:moveTo>
                  <a:pt x="24854" y="9575"/>
                </a:moveTo>
                <a:cubicBezTo>
                  <a:pt x="24854" y="9535"/>
                  <a:pt x="24822" y="9586"/>
                  <a:pt x="24805" y="9624"/>
                </a:cubicBezTo>
                <a:cubicBezTo>
                  <a:pt x="24736" y="9777"/>
                  <a:pt x="24645" y="9919"/>
                  <a:pt x="24532" y="10046"/>
                </a:cubicBezTo>
                <a:cubicBezTo>
                  <a:pt x="24445" y="10144"/>
                  <a:pt x="24364" y="10243"/>
                  <a:pt x="24284" y="10344"/>
                </a:cubicBezTo>
                <a:cubicBezTo>
                  <a:pt x="24274" y="10356"/>
                  <a:pt x="24217" y="10382"/>
                  <a:pt x="24209" y="10393"/>
                </a:cubicBezTo>
                <a:cubicBezTo>
                  <a:pt x="24188" y="10425"/>
                  <a:pt x="24190" y="10414"/>
                  <a:pt x="24160" y="10468"/>
                </a:cubicBezTo>
                <a:cubicBezTo>
                  <a:pt x="24235" y="10468"/>
                  <a:pt x="24289" y="10455"/>
                  <a:pt x="24358" y="10443"/>
                </a:cubicBezTo>
                <a:cubicBezTo>
                  <a:pt x="24413" y="10434"/>
                  <a:pt x="24560" y="10413"/>
                  <a:pt x="24606" y="10418"/>
                </a:cubicBezTo>
                <a:cubicBezTo>
                  <a:pt x="24686" y="10427"/>
                  <a:pt x="24659" y="10426"/>
                  <a:pt x="24730" y="10418"/>
                </a:cubicBezTo>
                <a:cubicBezTo>
                  <a:pt x="24787" y="10412"/>
                  <a:pt x="24887" y="10443"/>
                  <a:pt x="24904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27720" y="5840280"/>
            <a:ext cx="1098360" cy="598680"/>
          </a:xfrm>
          <a:custGeom>
            <a:avLst/>
            <a:gdLst/>
            <a:ahLst/>
            <a:rect l="l" t="t" r="r" b="b"/>
            <a:pathLst>
              <a:path w="3052" h="1663">
                <a:moveTo>
                  <a:pt x="12576" y="17884"/>
                </a:moveTo>
                <a:cubicBezTo>
                  <a:pt x="12614" y="17857"/>
                  <a:pt x="12637" y="17832"/>
                  <a:pt x="12675" y="17810"/>
                </a:cubicBezTo>
                <a:cubicBezTo>
                  <a:pt x="12720" y="17784"/>
                  <a:pt x="12770" y="17757"/>
                  <a:pt x="12824" y="17735"/>
                </a:cubicBezTo>
                <a:cubicBezTo>
                  <a:pt x="12832" y="17735"/>
                  <a:pt x="12841" y="17735"/>
                  <a:pt x="12849" y="17735"/>
                </a:cubicBezTo>
                <a:cubicBezTo>
                  <a:pt x="12865" y="17705"/>
                  <a:pt x="12858" y="17717"/>
                  <a:pt x="12874" y="17686"/>
                </a:cubicBezTo>
                <a:cubicBezTo>
                  <a:pt x="12901" y="17677"/>
                  <a:pt x="12921" y="17670"/>
                  <a:pt x="12948" y="17661"/>
                </a:cubicBezTo>
                <a:cubicBezTo>
                  <a:pt x="12964" y="17629"/>
                  <a:pt x="12957" y="17643"/>
                  <a:pt x="12973" y="17611"/>
                </a:cubicBezTo>
                <a:cubicBezTo>
                  <a:pt x="12994" y="17597"/>
                  <a:pt x="13046" y="17548"/>
                  <a:pt x="13072" y="17537"/>
                </a:cubicBezTo>
                <a:cubicBezTo>
                  <a:pt x="13120" y="17513"/>
                  <a:pt x="13134" y="17505"/>
                  <a:pt x="13171" y="17512"/>
                </a:cubicBezTo>
                <a:cubicBezTo>
                  <a:pt x="13185" y="17502"/>
                  <a:pt x="13222" y="17486"/>
                  <a:pt x="13246" y="17462"/>
                </a:cubicBezTo>
                <a:cubicBezTo>
                  <a:pt x="13269" y="17440"/>
                  <a:pt x="13277" y="17435"/>
                  <a:pt x="13271" y="17413"/>
                </a:cubicBezTo>
                <a:cubicBezTo>
                  <a:pt x="13309" y="17397"/>
                  <a:pt x="13361" y="17382"/>
                  <a:pt x="13395" y="17363"/>
                </a:cubicBezTo>
                <a:cubicBezTo>
                  <a:pt x="13432" y="17342"/>
                  <a:pt x="13456" y="17314"/>
                  <a:pt x="13494" y="17289"/>
                </a:cubicBezTo>
                <a:cubicBezTo>
                  <a:pt x="13531" y="17264"/>
                  <a:pt x="13555" y="17242"/>
                  <a:pt x="13593" y="17214"/>
                </a:cubicBezTo>
                <a:cubicBezTo>
                  <a:pt x="13648" y="17173"/>
                  <a:pt x="13708" y="17150"/>
                  <a:pt x="13767" y="17115"/>
                </a:cubicBezTo>
                <a:cubicBezTo>
                  <a:pt x="13824" y="17081"/>
                  <a:pt x="13886" y="17077"/>
                  <a:pt x="13940" y="17041"/>
                </a:cubicBezTo>
                <a:cubicBezTo>
                  <a:pt x="13940" y="17033"/>
                  <a:pt x="13940" y="17024"/>
                  <a:pt x="13940" y="17016"/>
                </a:cubicBezTo>
                <a:cubicBezTo>
                  <a:pt x="13995" y="16998"/>
                  <a:pt x="14032" y="16995"/>
                  <a:pt x="14089" y="16966"/>
                </a:cubicBezTo>
                <a:cubicBezTo>
                  <a:pt x="14145" y="16937"/>
                  <a:pt x="14179" y="16914"/>
                  <a:pt x="14238" y="16892"/>
                </a:cubicBezTo>
                <a:cubicBezTo>
                  <a:pt x="14287" y="16874"/>
                  <a:pt x="14337" y="16850"/>
                  <a:pt x="14387" y="16818"/>
                </a:cubicBezTo>
                <a:cubicBezTo>
                  <a:pt x="14442" y="16783"/>
                  <a:pt x="14458" y="16788"/>
                  <a:pt x="14511" y="16768"/>
                </a:cubicBezTo>
                <a:cubicBezTo>
                  <a:pt x="14533" y="16750"/>
                  <a:pt x="14565" y="16720"/>
                  <a:pt x="14610" y="16694"/>
                </a:cubicBezTo>
                <a:cubicBezTo>
                  <a:pt x="14661" y="16665"/>
                  <a:pt x="14711" y="16619"/>
                  <a:pt x="14759" y="16594"/>
                </a:cubicBezTo>
                <a:cubicBezTo>
                  <a:pt x="14810" y="16568"/>
                  <a:pt x="14896" y="16542"/>
                  <a:pt x="14957" y="16520"/>
                </a:cubicBezTo>
                <a:cubicBezTo>
                  <a:pt x="15019" y="16497"/>
                  <a:pt x="15092" y="16471"/>
                  <a:pt x="15156" y="16446"/>
                </a:cubicBezTo>
                <a:cubicBezTo>
                  <a:pt x="15207" y="16426"/>
                  <a:pt x="15275" y="16401"/>
                  <a:pt x="15329" y="16371"/>
                </a:cubicBezTo>
                <a:cubicBezTo>
                  <a:pt x="15402" y="16331"/>
                  <a:pt x="15454" y="16305"/>
                  <a:pt x="15528" y="16272"/>
                </a:cubicBezTo>
                <a:cubicBezTo>
                  <a:pt x="15621" y="16230"/>
                  <a:pt x="15578" y="16248"/>
                  <a:pt x="15627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5322960"/>
            <a:ext cx="1233360" cy="384120"/>
          </a:xfrm>
          <a:custGeom>
            <a:avLst/>
            <a:gdLst/>
            <a:ahLst/>
            <a:rect l="l" t="t" r="r" b="b"/>
            <a:pathLst>
              <a:path w="3424" h="1067">
                <a:moveTo>
                  <a:pt x="18306" y="14957"/>
                </a:moveTo>
                <a:cubicBezTo>
                  <a:pt x="18321" y="14937"/>
                  <a:pt x="18316" y="14928"/>
                  <a:pt x="18331" y="14908"/>
                </a:cubicBezTo>
                <a:cubicBezTo>
                  <a:pt x="18237" y="15189"/>
                  <a:pt x="18074" y="15472"/>
                  <a:pt x="17909" y="15726"/>
                </a:cubicBezTo>
                <a:cubicBezTo>
                  <a:pt x="17855" y="15799"/>
                  <a:pt x="17830" y="15799"/>
                  <a:pt x="17835" y="15850"/>
                </a:cubicBezTo>
                <a:cubicBezTo>
                  <a:pt x="18057" y="15806"/>
                  <a:pt x="18277" y="15782"/>
                  <a:pt x="18504" y="15776"/>
                </a:cubicBezTo>
                <a:cubicBezTo>
                  <a:pt x="18546" y="15776"/>
                  <a:pt x="18554" y="15776"/>
                  <a:pt x="18579" y="15776"/>
                </a:cubicBezTo>
              </a:path>
              <a:path w="3424" h="1067">
                <a:moveTo>
                  <a:pt x="18827" y="14982"/>
                </a:moveTo>
                <a:cubicBezTo>
                  <a:pt x="18857" y="15235"/>
                  <a:pt x="18875" y="15503"/>
                  <a:pt x="18926" y="15751"/>
                </a:cubicBezTo>
                <a:cubicBezTo>
                  <a:pt x="18926" y="15734"/>
                  <a:pt x="18926" y="15718"/>
                  <a:pt x="18926" y="15701"/>
                </a:cubicBezTo>
              </a:path>
              <a:path w="3424" h="1067">
                <a:moveTo>
                  <a:pt x="18827" y="14883"/>
                </a:moveTo>
                <a:cubicBezTo>
                  <a:pt x="19108" y="15033"/>
                  <a:pt x="19601" y="15234"/>
                  <a:pt x="19323" y="15652"/>
                </a:cubicBezTo>
                <a:cubicBezTo>
                  <a:pt x="19202" y="15834"/>
                  <a:pt x="19077" y="15853"/>
                  <a:pt x="19000" y="15751"/>
                </a:cubicBezTo>
              </a:path>
              <a:path w="3424" h="1067">
                <a:moveTo>
                  <a:pt x="20042" y="14932"/>
                </a:moveTo>
                <a:cubicBezTo>
                  <a:pt x="19991" y="14920"/>
                  <a:pt x="19949" y="14871"/>
                  <a:pt x="19893" y="14858"/>
                </a:cubicBezTo>
                <a:cubicBezTo>
                  <a:pt x="19877" y="14858"/>
                  <a:pt x="19860" y="14858"/>
                  <a:pt x="19844" y="14858"/>
                </a:cubicBezTo>
                <a:cubicBezTo>
                  <a:pt x="19699" y="15063"/>
                  <a:pt x="19564" y="15329"/>
                  <a:pt x="19720" y="15577"/>
                </a:cubicBezTo>
                <a:cubicBezTo>
                  <a:pt x="19907" y="15874"/>
                  <a:pt x="20171" y="15667"/>
                  <a:pt x="20290" y="15478"/>
                </a:cubicBezTo>
                <a:cubicBezTo>
                  <a:pt x="20152" y="15363"/>
                  <a:pt x="20079" y="15388"/>
                  <a:pt x="19893" y="15404"/>
                </a:cubicBezTo>
              </a:path>
              <a:path w="3424" h="1067">
                <a:moveTo>
                  <a:pt x="19943" y="15404"/>
                </a:moveTo>
                <a:cubicBezTo>
                  <a:pt x="20120" y="15377"/>
                  <a:pt x="20293" y="15335"/>
                  <a:pt x="20464" y="15304"/>
                </a:cubicBezTo>
              </a:path>
              <a:path w="3424" h="1067">
                <a:moveTo>
                  <a:pt x="20737" y="15106"/>
                </a:moveTo>
                <a:cubicBezTo>
                  <a:pt x="20776" y="15264"/>
                  <a:pt x="20815" y="15421"/>
                  <a:pt x="20861" y="15577"/>
                </a:cubicBezTo>
                <a:cubicBezTo>
                  <a:pt x="20830" y="15392"/>
                  <a:pt x="20768" y="15222"/>
                  <a:pt x="20737" y="15032"/>
                </a:cubicBezTo>
                <a:cubicBezTo>
                  <a:pt x="20716" y="14907"/>
                  <a:pt x="20715" y="14880"/>
                  <a:pt x="20687" y="14808"/>
                </a:cubicBezTo>
                <a:cubicBezTo>
                  <a:pt x="20813" y="14808"/>
                  <a:pt x="20904" y="14827"/>
                  <a:pt x="21034" y="14808"/>
                </a:cubicBezTo>
                <a:cubicBezTo>
                  <a:pt x="21219" y="14782"/>
                  <a:pt x="21184" y="14732"/>
                  <a:pt x="21208" y="14908"/>
                </a:cubicBezTo>
              </a:path>
              <a:path w="3424" h="1067">
                <a:moveTo>
                  <a:pt x="20886" y="15255"/>
                </a:moveTo>
                <a:cubicBezTo>
                  <a:pt x="20909" y="15248"/>
                  <a:pt x="21258" y="15162"/>
                  <a:pt x="21258" y="15156"/>
                </a:cubicBezTo>
                <a:cubicBezTo>
                  <a:pt x="21250" y="15156"/>
                  <a:pt x="21241" y="15156"/>
                  <a:pt x="21233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38800" y="5446800"/>
            <a:ext cx="792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2477" y="15131"/>
                </a:moveTo>
                <a:cubicBezTo>
                  <a:pt x="12438" y="15141"/>
                  <a:pt x="12389" y="15151"/>
                  <a:pt x="12378" y="15180"/>
                </a:cubicBezTo>
                <a:cubicBezTo>
                  <a:pt x="12339" y="15279"/>
                  <a:pt x="12338" y="15294"/>
                  <a:pt x="12427" y="15255"/>
                </a:cubicBezTo>
                <a:cubicBezTo>
                  <a:pt x="12440" y="15223"/>
                  <a:pt x="12404" y="15116"/>
                  <a:pt x="12353" y="15180"/>
                </a:cubicBezTo>
                <a:cubicBezTo>
                  <a:pt x="12329" y="15253"/>
                  <a:pt x="12320" y="15277"/>
                  <a:pt x="12328" y="15329"/>
                </a:cubicBezTo>
                <a:cubicBezTo>
                  <a:pt x="12400" y="15317"/>
                  <a:pt x="12502" y="15274"/>
                  <a:pt x="12502" y="15180"/>
                </a:cubicBezTo>
                <a:cubicBezTo>
                  <a:pt x="12494" y="15180"/>
                  <a:pt x="12485" y="15180"/>
                  <a:pt x="12477" y="15180"/>
                </a:cubicBezTo>
                <a:cubicBezTo>
                  <a:pt x="12436" y="15185"/>
                  <a:pt x="12293" y="15285"/>
                  <a:pt x="12402" y="15304"/>
                </a:cubicBezTo>
                <a:cubicBezTo>
                  <a:pt x="12472" y="15316"/>
                  <a:pt x="12626" y="15183"/>
                  <a:pt x="12502" y="15156"/>
                </a:cubicBezTo>
                <a:cubicBezTo>
                  <a:pt x="12477" y="15156"/>
                  <a:pt x="12469" y="15156"/>
                  <a:pt x="12477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98960" y="4705200"/>
            <a:ext cx="312840" cy="117720"/>
          </a:xfrm>
          <a:custGeom>
            <a:avLst/>
            <a:gdLst/>
            <a:ahLst/>
            <a:rect l="l" t="t" r="r" b="b"/>
            <a:pathLst>
              <a:path w="870" h="324">
                <a:moveTo>
                  <a:pt x="11410" y="13221"/>
                </a:moveTo>
                <a:cubicBezTo>
                  <a:pt x="11410" y="13246"/>
                  <a:pt x="11410" y="13254"/>
                  <a:pt x="11385" y="13246"/>
                </a:cubicBezTo>
                <a:cubicBezTo>
                  <a:pt x="11500" y="13229"/>
                  <a:pt x="11617" y="13206"/>
                  <a:pt x="11733" y="13196"/>
                </a:cubicBezTo>
                <a:cubicBezTo>
                  <a:pt x="11835" y="13187"/>
                  <a:pt x="11932" y="13194"/>
                  <a:pt x="12030" y="13171"/>
                </a:cubicBezTo>
                <a:cubicBezTo>
                  <a:pt x="12092" y="13157"/>
                  <a:pt x="12100" y="13146"/>
                  <a:pt x="12154" y="13146"/>
                </a:cubicBezTo>
              </a:path>
              <a:path w="870" h="324">
                <a:moveTo>
                  <a:pt x="11981" y="13072"/>
                </a:moveTo>
                <a:cubicBezTo>
                  <a:pt x="12080" y="13080"/>
                  <a:pt x="12142" y="13115"/>
                  <a:pt x="12229" y="13146"/>
                </a:cubicBezTo>
                <a:cubicBezTo>
                  <a:pt x="12237" y="13146"/>
                  <a:pt x="12246" y="13146"/>
                  <a:pt x="12254" y="13146"/>
                </a:cubicBezTo>
                <a:cubicBezTo>
                  <a:pt x="12184" y="13251"/>
                  <a:pt x="12086" y="13282"/>
                  <a:pt x="12005" y="13370"/>
                </a:cubicBezTo>
                <a:cubicBezTo>
                  <a:pt x="11987" y="13389"/>
                  <a:pt x="11975" y="13438"/>
                  <a:pt x="12005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7680" y="4429080"/>
            <a:ext cx="1393560" cy="1108080"/>
          </a:xfrm>
          <a:custGeom>
            <a:avLst/>
            <a:gdLst/>
            <a:ahLst/>
            <a:rect l="l" t="t" r="r" b="b"/>
            <a:pathLst>
              <a:path w="3870" h="3077">
                <a:moveTo>
                  <a:pt x="4490" y="14784"/>
                </a:moveTo>
                <a:cubicBezTo>
                  <a:pt x="4461" y="14696"/>
                  <a:pt x="4414" y="14650"/>
                  <a:pt x="4316" y="14635"/>
                </a:cubicBezTo>
                <a:cubicBezTo>
                  <a:pt x="4119" y="14605"/>
                  <a:pt x="4029" y="14814"/>
                  <a:pt x="3969" y="14957"/>
                </a:cubicBezTo>
                <a:cubicBezTo>
                  <a:pt x="3898" y="15126"/>
                  <a:pt x="3904" y="15333"/>
                  <a:pt x="4118" y="15379"/>
                </a:cubicBezTo>
                <a:cubicBezTo>
                  <a:pt x="4305" y="15419"/>
                  <a:pt x="4475" y="15355"/>
                  <a:pt x="4564" y="15205"/>
                </a:cubicBezTo>
                <a:cubicBezTo>
                  <a:pt x="4607" y="15132"/>
                  <a:pt x="4519" y="15077"/>
                  <a:pt x="4440" y="15081"/>
                </a:cubicBezTo>
                <a:cubicBezTo>
                  <a:pt x="4400" y="15101"/>
                  <a:pt x="4393" y="15110"/>
                  <a:pt x="4366" y="15106"/>
                </a:cubicBezTo>
              </a:path>
              <a:path w="3870" h="3077">
                <a:moveTo>
                  <a:pt x="4862" y="14784"/>
                </a:moveTo>
                <a:cubicBezTo>
                  <a:pt x="4862" y="14941"/>
                  <a:pt x="4890" y="15077"/>
                  <a:pt x="4911" y="15230"/>
                </a:cubicBezTo>
                <a:cubicBezTo>
                  <a:pt x="4925" y="15332"/>
                  <a:pt x="4911" y="15258"/>
                  <a:pt x="4911" y="15230"/>
                </a:cubicBezTo>
                <a:cubicBezTo>
                  <a:pt x="4847" y="15038"/>
                  <a:pt x="4779" y="14849"/>
                  <a:pt x="4986" y="14709"/>
                </a:cubicBezTo>
                <a:cubicBezTo>
                  <a:pt x="5081" y="14685"/>
                  <a:pt x="5110" y="14674"/>
                  <a:pt x="5159" y="14734"/>
                </a:cubicBezTo>
                <a:cubicBezTo>
                  <a:pt x="5138" y="14874"/>
                  <a:pt x="5111" y="14912"/>
                  <a:pt x="4986" y="14982"/>
                </a:cubicBezTo>
                <a:cubicBezTo>
                  <a:pt x="5098" y="14963"/>
                  <a:pt x="5245" y="14950"/>
                  <a:pt x="5308" y="15081"/>
                </a:cubicBezTo>
                <a:cubicBezTo>
                  <a:pt x="5408" y="15288"/>
                  <a:pt x="5029" y="15310"/>
                  <a:pt x="4936" y="15304"/>
                </a:cubicBezTo>
                <a:cubicBezTo>
                  <a:pt x="4710" y="15290"/>
                  <a:pt x="4926" y="15196"/>
                  <a:pt x="5011" y="15131"/>
                </a:cubicBezTo>
              </a:path>
              <a:path w="3870" h="3077">
                <a:moveTo>
                  <a:pt x="4068" y="14387"/>
                </a:moveTo>
                <a:cubicBezTo>
                  <a:pt x="4002" y="14387"/>
                  <a:pt x="4151" y="14387"/>
                  <a:pt x="4217" y="14387"/>
                </a:cubicBezTo>
                <a:cubicBezTo>
                  <a:pt x="4418" y="14387"/>
                  <a:pt x="4613" y="14399"/>
                  <a:pt x="4812" y="14412"/>
                </a:cubicBezTo>
                <a:cubicBezTo>
                  <a:pt x="4935" y="14420"/>
                  <a:pt x="5061" y="14412"/>
                  <a:pt x="5184" y="14412"/>
                </a:cubicBezTo>
              </a:path>
              <a:path w="3870" h="3077">
                <a:moveTo>
                  <a:pt x="4936" y="14163"/>
                </a:moveTo>
                <a:cubicBezTo>
                  <a:pt x="4887" y="14163"/>
                  <a:pt x="5059" y="14269"/>
                  <a:pt x="5085" y="14288"/>
                </a:cubicBezTo>
                <a:cubicBezTo>
                  <a:pt x="5135" y="14324"/>
                  <a:pt x="5187" y="14349"/>
                  <a:pt x="5234" y="14387"/>
                </a:cubicBezTo>
                <a:cubicBezTo>
                  <a:pt x="5162" y="14515"/>
                  <a:pt x="5072" y="14566"/>
                  <a:pt x="4961" y="14660"/>
                </a:cubicBezTo>
                <a:cubicBezTo>
                  <a:pt x="4918" y="14696"/>
                  <a:pt x="4898" y="14713"/>
                  <a:pt x="4887" y="14759"/>
                </a:cubicBezTo>
              </a:path>
              <a:path w="3870" h="3077">
                <a:moveTo>
                  <a:pt x="1786" y="12824"/>
                </a:moveTo>
                <a:cubicBezTo>
                  <a:pt x="1720" y="12796"/>
                  <a:pt x="1633" y="12763"/>
                  <a:pt x="1588" y="12849"/>
                </a:cubicBezTo>
                <a:cubicBezTo>
                  <a:pt x="1496" y="13023"/>
                  <a:pt x="1507" y="13353"/>
                  <a:pt x="1662" y="13494"/>
                </a:cubicBezTo>
                <a:cubicBezTo>
                  <a:pt x="1801" y="13621"/>
                  <a:pt x="1880" y="13368"/>
                  <a:pt x="1935" y="13320"/>
                </a:cubicBezTo>
                <a:cubicBezTo>
                  <a:pt x="1943" y="13320"/>
                  <a:pt x="1952" y="13320"/>
                  <a:pt x="1960" y="13320"/>
                </a:cubicBezTo>
              </a:path>
              <a:path w="3870" h="3077">
                <a:moveTo>
                  <a:pt x="2034" y="12824"/>
                </a:moveTo>
                <a:cubicBezTo>
                  <a:pt x="2065" y="12785"/>
                  <a:pt x="2115" y="12744"/>
                  <a:pt x="2059" y="12725"/>
                </a:cubicBezTo>
                <a:cubicBezTo>
                  <a:pt x="1971" y="12754"/>
                  <a:pt x="2065" y="12966"/>
                  <a:pt x="2084" y="13022"/>
                </a:cubicBezTo>
                <a:cubicBezTo>
                  <a:pt x="2109" y="13097"/>
                  <a:pt x="2154" y="13334"/>
                  <a:pt x="2257" y="13320"/>
                </a:cubicBezTo>
                <a:cubicBezTo>
                  <a:pt x="2325" y="13311"/>
                  <a:pt x="2457" y="13185"/>
                  <a:pt x="2480" y="13122"/>
                </a:cubicBezTo>
                <a:cubicBezTo>
                  <a:pt x="2493" y="13088"/>
                  <a:pt x="2489" y="13024"/>
                  <a:pt x="2456" y="13022"/>
                </a:cubicBezTo>
                <a:cubicBezTo>
                  <a:pt x="2379" y="13018"/>
                  <a:pt x="2362" y="13028"/>
                  <a:pt x="2307" y="13072"/>
                </a:cubicBezTo>
                <a:cubicBezTo>
                  <a:pt x="2370" y="13009"/>
                  <a:pt x="2435" y="12898"/>
                  <a:pt x="2530" y="12898"/>
                </a:cubicBezTo>
              </a:path>
              <a:path w="3870" h="3077">
                <a:moveTo>
                  <a:pt x="2084" y="12774"/>
                </a:moveTo>
                <a:cubicBezTo>
                  <a:pt x="2129" y="12741"/>
                  <a:pt x="2173" y="12730"/>
                  <a:pt x="2232" y="12725"/>
                </a:cubicBezTo>
                <a:cubicBezTo>
                  <a:pt x="2265" y="12722"/>
                  <a:pt x="2299" y="12725"/>
                  <a:pt x="2332" y="12725"/>
                </a:cubicBezTo>
              </a:path>
              <a:path w="3870" h="3077">
                <a:moveTo>
                  <a:pt x="1463" y="12750"/>
                </a:moveTo>
                <a:cubicBezTo>
                  <a:pt x="1455" y="12750"/>
                  <a:pt x="1447" y="12750"/>
                  <a:pt x="1439" y="12750"/>
                </a:cubicBezTo>
                <a:cubicBezTo>
                  <a:pt x="1448" y="12723"/>
                  <a:pt x="1585" y="12638"/>
                  <a:pt x="1612" y="12626"/>
                </a:cubicBezTo>
                <a:cubicBezTo>
                  <a:pt x="1754" y="12562"/>
                  <a:pt x="1922" y="12530"/>
                  <a:pt x="2059" y="12477"/>
                </a:cubicBezTo>
                <a:cubicBezTo>
                  <a:pt x="2068" y="12474"/>
                  <a:pt x="2157" y="12428"/>
                  <a:pt x="2158" y="12427"/>
                </a:cubicBezTo>
                <a:cubicBezTo>
                  <a:pt x="2158" y="12419"/>
                  <a:pt x="2158" y="12410"/>
                  <a:pt x="2158" y="12402"/>
                </a:cubicBezTo>
              </a:path>
              <a:path w="3870" h="3077">
                <a:moveTo>
                  <a:pt x="1935" y="12303"/>
                </a:moveTo>
                <a:cubicBezTo>
                  <a:pt x="2030" y="12303"/>
                  <a:pt x="2117" y="12316"/>
                  <a:pt x="2208" y="12328"/>
                </a:cubicBezTo>
                <a:cubicBezTo>
                  <a:pt x="2298" y="12339"/>
                  <a:pt x="2300" y="12319"/>
                  <a:pt x="2332" y="12427"/>
                </a:cubicBezTo>
                <a:cubicBezTo>
                  <a:pt x="2344" y="12467"/>
                  <a:pt x="2372" y="12643"/>
                  <a:pt x="2332" y="12675"/>
                </a:cubicBezTo>
                <a:cubicBezTo>
                  <a:pt x="2304" y="12675"/>
                  <a:pt x="2298" y="12677"/>
                  <a:pt x="2332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01960" y="5473800"/>
            <a:ext cx="3108240" cy="982440"/>
          </a:xfrm>
          <a:custGeom>
            <a:avLst/>
            <a:gdLst/>
            <a:ahLst/>
            <a:rect l="l" t="t" r="r" b="b"/>
            <a:pathLst>
              <a:path w="8633" h="2730">
                <a:moveTo>
                  <a:pt x="8111" y="17835"/>
                </a:moveTo>
                <a:cubicBezTo>
                  <a:pt x="8111" y="17810"/>
                  <a:pt x="8111" y="17785"/>
                  <a:pt x="8111" y="17760"/>
                </a:cubicBezTo>
                <a:cubicBezTo>
                  <a:pt x="8090" y="17795"/>
                  <a:pt x="8049" y="17927"/>
                  <a:pt x="8136" y="17810"/>
                </a:cubicBezTo>
                <a:cubicBezTo>
                  <a:pt x="8189" y="17738"/>
                  <a:pt x="8177" y="17782"/>
                  <a:pt x="8161" y="17735"/>
                </a:cubicBezTo>
                <a:cubicBezTo>
                  <a:pt x="8137" y="17755"/>
                  <a:pt x="8026" y="17862"/>
                  <a:pt x="8062" y="17909"/>
                </a:cubicBezTo>
                <a:cubicBezTo>
                  <a:pt x="8090" y="17909"/>
                  <a:pt x="8100" y="17906"/>
                  <a:pt x="8111" y="17884"/>
                </a:cubicBezTo>
                <a:cubicBezTo>
                  <a:pt x="8111" y="17785"/>
                  <a:pt x="8081" y="17894"/>
                  <a:pt x="8062" y="17934"/>
                </a:cubicBezTo>
              </a:path>
              <a:path w="8633" h="2730">
                <a:moveTo>
                  <a:pt x="12328" y="17810"/>
                </a:moveTo>
                <a:cubicBezTo>
                  <a:pt x="12328" y="17782"/>
                  <a:pt x="12330" y="17771"/>
                  <a:pt x="12353" y="17760"/>
                </a:cubicBezTo>
              </a:path>
              <a:path w="8633" h="2730">
                <a:moveTo>
                  <a:pt x="12477" y="17760"/>
                </a:moveTo>
                <a:cubicBezTo>
                  <a:pt x="12562" y="17760"/>
                  <a:pt x="12490" y="17745"/>
                  <a:pt x="12477" y="17760"/>
                </a:cubicBezTo>
                <a:cubicBezTo>
                  <a:pt x="12457" y="17801"/>
                  <a:pt x="12448" y="17807"/>
                  <a:pt x="12452" y="17835"/>
                </a:cubicBezTo>
                <a:cubicBezTo>
                  <a:pt x="12552" y="17845"/>
                  <a:pt x="12592" y="17823"/>
                  <a:pt x="12601" y="17711"/>
                </a:cubicBezTo>
                <a:cubicBezTo>
                  <a:pt x="12606" y="17647"/>
                  <a:pt x="12525" y="17704"/>
                  <a:pt x="12502" y="17711"/>
                </a:cubicBezTo>
                <a:cubicBezTo>
                  <a:pt x="12425" y="17734"/>
                  <a:pt x="12548" y="17788"/>
                  <a:pt x="12576" y="17760"/>
                </a:cubicBezTo>
                <a:cubicBezTo>
                  <a:pt x="12584" y="17744"/>
                  <a:pt x="12593" y="17727"/>
                  <a:pt x="12601" y="17711"/>
                </a:cubicBezTo>
                <a:cubicBezTo>
                  <a:pt x="12577" y="17639"/>
                  <a:pt x="12543" y="17708"/>
                  <a:pt x="12526" y="17735"/>
                </a:cubicBezTo>
                <a:cubicBezTo>
                  <a:pt x="12482" y="17805"/>
                  <a:pt x="12560" y="17734"/>
                  <a:pt x="12576" y="17711"/>
                </a:cubicBezTo>
                <a:cubicBezTo>
                  <a:pt x="12512" y="17663"/>
                  <a:pt x="12494" y="17702"/>
                  <a:pt x="12452" y="17760"/>
                </a:cubicBezTo>
                <a:cubicBezTo>
                  <a:pt x="12502" y="17772"/>
                  <a:pt x="12484" y="17764"/>
                  <a:pt x="12526" y="17711"/>
                </a:cubicBezTo>
              </a:path>
              <a:path w="8633" h="2730">
                <a:moveTo>
                  <a:pt x="9649" y="15354"/>
                </a:moveTo>
                <a:cubicBezTo>
                  <a:pt x="9654" y="15338"/>
                  <a:pt x="9708" y="15287"/>
                  <a:pt x="9699" y="15255"/>
                </a:cubicBezTo>
                <a:cubicBezTo>
                  <a:pt x="9659" y="15255"/>
                  <a:pt x="9640" y="15266"/>
                  <a:pt x="9624" y="15304"/>
                </a:cubicBezTo>
                <a:cubicBezTo>
                  <a:pt x="9663" y="15381"/>
                  <a:pt x="9805" y="15379"/>
                  <a:pt x="9847" y="15255"/>
                </a:cubicBezTo>
                <a:cubicBezTo>
                  <a:pt x="9839" y="15247"/>
                  <a:pt x="9831" y="15238"/>
                  <a:pt x="9823" y="15230"/>
                </a:cubicBezTo>
                <a:cubicBezTo>
                  <a:pt x="9777" y="15227"/>
                  <a:pt x="9430" y="15306"/>
                  <a:pt x="9624" y="15379"/>
                </a:cubicBezTo>
                <a:cubicBezTo>
                  <a:pt x="9720" y="15379"/>
                  <a:pt x="9751" y="15381"/>
                  <a:pt x="9798" y="15329"/>
                </a:cubicBezTo>
                <a:cubicBezTo>
                  <a:pt x="9776" y="15264"/>
                  <a:pt x="9729" y="15317"/>
                  <a:pt x="9699" y="15354"/>
                </a:cubicBezTo>
              </a:path>
              <a:path w="8633" h="2730">
                <a:moveTo>
                  <a:pt x="14163" y="16842"/>
                </a:moveTo>
                <a:lnTo>
                  <a:pt x="14163" y="16842"/>
                </a:lnTo>
              </a:path>
              <a:path w="8633" h="2730">
                <a:moveTo>
                  <a:pt x="12477" y="15429"/>
                </a:moveTo>
                <a:cubicBezTo>
                  <a:pt x="12434" y="15415"/>
                  <a:pt x="12452" y="15359"/>
                  <a:pt x="12452" y="15304"/>
                </a:cubicBezTo>
                <a:cubicBezTo>
                  <a:pt x="12452" y="15296"/>
                  <a:pt x="12452" y="15288"/>
                  <a:pt x="12452" y="15280"/>
                </a:cubicBezTo>
                <a:cubicBezTo>
                  <a:pt x="12422" y="15447"/>
                  <a:pt x="12432" y="15607"/>
                  <a:pt x="12452" y="15776"/>
                </a:cubicBezTo>
                <a:cubicBezTo>
                  <a:pt x="12469" y="15920"/>
                  <a:pt x="12520" y="16053"/>
                  <a:pt x="12526" y="16197"/>
                </a:cubicBezTo>
                <a:cubicBezTo>
                  <a:pt x="12528" y="16245"/>
                  <a:pt x="12483" y="16343"/>
                  <a:pt x="12502" y="16247"/>
                </a:cubicBezTo>
                <a:cubicBezTo>
                  <a:pt x="12510" y="16214"/>
                  <a:pt x="12518" y="16181"/>
                  <a:pt x="12526" y="16148"/>
                </a:cubicBezTo>
              </a:path>
              <a:path w="8633" h="2730">
                <a:moveTo>
                  <a:pt x="12452" y="15478"/>
                </a:moveTo>
                <a:cubicBezTo>
                  <a:pt x="12488" y="15691"/>
                  <a:pt x="12484" y="15907"/>
                  <a:pt x="12502" y="16123"/>
                </a:cubicBezTo>
                <a:cubicBezTo>
                  <a:pt x="12522" y="16367"/>
                  <a:pt x="12548" y="16621"/>
                  <a:pt x="12526" y="16867"/>
                </a:cubicBezTo>
                <a:cubicBezTo>
                  <a:pt x="12516" y="16986"/>
                  <a:pt x="12502" y="17095"/>
                  <a:pt x="12502" y="17214"/>
                </a:cubicBezTo>
                <a:cubicBezTo>
                  <a:pt x="12502" y="17280"/>
                  <a:pt x="12502" y="17199"/>
                  <a:pt x="12502" y="17190"/>
                </a:cubicBezTo>
              </a:path>
              <a:path w="8633" h="2730">
                <a:moveTo>
                  <a:pt x="12452" y="16321"/>
                </a:moveTo>
                <a:cubicBezTo>
                  <a:pt x="12468" y="16472"/>
                  <a:pt x="12504" y="16616"/>
                  <a:pt x="12526" y="16768"/>
                </a:cubicBezTo>
                <a:cubicBezTo>
                  <a:pt x="12562" y="17015"/>
                  <a:pt x="12541" y="17266"/>
                  <a:pt x="12576" y="17512"/>
                </a:cubicBezTo>
                <a:cubicBezTo>
                  <a:pt x="12595" y="17586"/>
                  <a:pt x="12603" y="17593"/>
                  <a:pt x="12601" y="17636"/>
                </a:cubicBezTo>
                <a:cubicBezTo>
                  <a:pt x="12601" y="17460"/>
                  <a:pt x="12603" y="17290"/>
                  <a:pt x="12576" y="17115"/>
                </a:cubicBezTo>
                <a:cubicBezTo>
                  <a:pt x="12568" y="17074"/>
                  <a:pt x="12559" y="17032"/>
                  <a:pt x="12551" y="16991"/>
                </a:cubicBezTo>
                <a:cubicBezTo>
                  <a:pt x="12551" y="17074"/>
                  <a:pt x="12545" y="17107"/>
                  <a:pt x="12551" y="17190"/>
                </a:cubicBezTo>
                <a:cubicBezTo>
                  <a:pt x="12568" y="17414"/>
                  <a:pt x="12518" y="17668"/>
                  <a:pt x="12551" y="17884"/>
                </a:cubicBezTo>
                <a:cubicBezTo>
                  <a:pt x="12558" y="17931"/>
                  <a:pt x="12566" y="17950"/>
                  <a:pt x="12551" y="17884"/>
                </a:cubicBezTo>
                <a:cubicBezTo>
                  <a:pt x="12551" y="17868"/>
                  <a:pt x="12551" y="17851"/>
                  <a:pt x="12551" y="17835"/>
                </a:cubicBezTo>
              </a:path>
              <a:path w="8633" h="2730">
                <a:moveTo>
                  <a:pt x="8111" y="17835"/>
                </a:moveTo>
                <a:cubicBezTo>
                  <a:pt x="8143" y="17827"/>
                  <a:pt x="8153" y="17817"/>
                  <a:pt x="8186" y="17810"/>
                </a:cubicBezTo>
                <a:cubicBezTo>
                  <a:pt x="8296" y="17787"/>
                  <a:pt x="8396" y="17797"/>
                  <a:pt x="8508" y="17785"/>
                </a:cubicBezTo>
                <a:cubicBezTo>
                  <a:pt x="8604" y="17775"/>
                  <a:pt x="8717" y="17790"/>
                  <a:pt x="8806" y="17785"/>
                </a:cubicBezTo>
                <a:cubicBezTo>
                  <a:pt x="8882" y="17781"/>
                  <a:pt x="8934" y="17784"/>
                  <a:pt x="9004" y="17785"/>
                </a:cubicBezTo>
                <a:cubicBezTo>
                  <a:pt x="9067" y="17786"/>
                  <a:pt x="9111" y="17785"/>
                  <a:pt x="9178" y="17785"/>
                </a:cubicBezTo>
                <a:cubicBezTo>
                  <a:pt x="9482" y="17785"/>
                  <a:pt x="9777" y="17775"/>
                  <a:pt x="10071" y="17735"/>
                </a:cubicBezTo>
                <a:cubicBezTo>
                  <a:pt x="10147" y="17725"/>
                  <a:pt x="10225" y="17739"/>
                  <a:pt x="10294" y="17735"/>
                </a:cubicBezTo>
                <a:cubicBezTo>
                  <a:pt x="10363" y="17731"/>
                  <a:pt x="10419" y="17713"/>
                  <a:pt x="10492" y="17711"/>
                </a:cubicBezTo>
                <a:cubicBezTo>
                  <a:pt x="10574" y="17708"/>
                  <a:pt x="10641" y="17695"/>
                  <a:pt x="10716" y="17686"/>
                </a:cubicBezTo>
                <a:cubicBezTo>
                  <a:pt x="10810" y="17674"/>
                  <a:pt x="10891" y="17664"/>
                  <a:pt x="10988" y="17661"/>
                </a:cubicBezTo>
                <a:cubicBezTo>
                  <a:pt x="11149" y="17656"/>
                  <a:pt x="11302" y="17644"/>
                  <a:pt x="11460" y="17636"/>
                </a:cubicBezTo>
                <a:cubicBezTo>
                  <a:pt x="11682" y="17625"/>
                  <a:pt x="11925" y="17637"/>
                  <a:pt x="12129" y="17661"/>
                </a:cubicBezTo>
                <a:cubicBezTo>
                  <a:pt x="12197" y="17669"/>
                  <a:pt x="12262" y="17671"/>
                  <a:pt x="12328" y="17686"/>
                </a:cubicBezTo>
                <a:cubicBezTo>
                  <a:pt x="12401" y="17703"/>
                  <a:pt x="12475" y="17721"/>
                  <a:pt x="12551" y="17735"/>
                </a:cubicBezTo>
                <a:cubicBezTo>
                  <a:pt x="12599" y="17744"/>
                  <a:pt x="12670" y="17776"/>
                  <a:pt x="12725" y="17785"/>
                </a:cubicBezTo>
                <a:cubicBezTo>
                  <a:pt x="12804" y="17798"/>
                  <a:pt x="12871" y="17818"/>
                  <a:pt x="12948" y="17835"/>
                </a:cubicBezTo>
                <a:cubicBezTo>
                  <a:pt x="13030" y="17853"/>
                  <a:pt x="13140" y="17899"/>
                  <a:pt x="13221" y="17909"/>
                </a:cubicBezTo>
                <a:cubicBezTo>
                  <a:pt x="13324" y="17922"/>
                  <a:pt x="13441" y="17928"/>
                  <a:pt x="13543" y="17934"/>
                </a:cubicBezTo>
                <a:cubicBezTo>
                  <a:pt x="13641" y="17939"/>
                  <a:pt x="13722" y="17920"/>
                  <a:pt x="13816" y="17909"/>
                </a:cubicBezTo>
                <a:cubicBezTo>
                  <a:pt x="13895" y="17900"/>
                  <a:pt x="13988" y="17879"/>
                  <a:pt x="14064" y="17859"/>
                </a:cubicBezTo>
                <a:cubicBezTo>
                  <a:pt x="14140" y="17839"/>
                  <a:pt x="14216" y="17830"/>
                  <a:pt x="14288" y="17810"/>
                </a:cubicBezTo>
                <a:cubicBezTo>
                  <a:pt x="14374" y="17786"/>
                  <a:pt x="14451" y="17751"/>
                  <a:pt x="14536" y="17735"/>
                </a:cubicBezTo>
                <a:cubicBezTo>
                  <a:pt x="14592" y="17724"/>
                  <a:pt x="14640" y="17714"/>
                  <a:pt x="14709" y="17711"/>
                </a:cubicBezTo>
                <a:cubicBezTo>
                  <a:pt x="14803" y="17707"/>
                  <a:pt x="14895" y="17691"/>
                  <a:pt x="14982" y="17686"/>
                </a:cubicBezTo>
                <a:cubicBezTo>
                  <a:pt x="15103" y="17680"/>
                  <a:pt x="15211" y="17704"/>
                  <a:pt x="15329" y="17711"/>
                </a:cubicBezTo>
                <a:cubicBezTo>
                  <a:pt x="15419" y="17716"/>
                  <a:pt x="15523" y="17683"/>
                  <a:pt x="15602" y="17686"/>
                </a:cubicBezTo>
                <a:cubicBezTo>
                  <a:pt x="15672" y="17689"/>
                  <a:pt x="15728" y="17708"/>
                  <a:pt x="15801" y="17711"/>
                </a:cubicBezTo>
                <a:cubicBezTo>
                  <a:pt x="15897" y="17715"/>
                  <a:pt x="15980" y="17731"/>
                  <a:pt x="16073" y="17735"/>
                </a:cubicBezTo>
                <a:cubicBezTo>
                  <a:pt x="16184" y="17740"/>
                  <a:pt x="16289" y="17726"/>
                  <a:pt x="16396" y="17711"/>
                </a:cubicBezTo>
                <a:cubicBezTo>
                  <a:pt x="16470" y="17700"/>
                  <a:pt x="16539" y="17672"/>
                  <a:pt x="16619" y="17686"/>
                </a:cubicBezTo>
                <a:cubicBezTo>
                  <a:pt x="16814" y="17720"/>
                  <a:pt x="16571" y="17663"/>
                  <a:pt x="16644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lete the Angle Bisector pag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34:43Z</dcterms:created>
  <dc:creator>TAMMY  COON</dc:creator>
  <dc:description/>
  <dc:language>en-US</dc:language>
  <cp:lastModifiedBy>deanne elizabeth mcgrath</cp:lastModifiedBy>
  <dcterms:modified xsi:type="dcterms:W3CDTF">2011-02-07T18:34:42Z</dcterms:modified>
  <cp:revision>11</cp:revision>
  <dc:subject/>
  <dc:title>Opener: Write the definition and draw a picture to represent each word. </dc:title>
</cp:coreProperties>
</file>